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-454025" cy="-45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F1E-F101-4458-A9FF-8AA80216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BD6-50EE-48BC-8CF9-6DE7D35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642-43A6-4CFC-9A33-7C874D59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08E-F4DF-44E0-9711-1373C1B6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79C-548D-4C3D-B7A5-4DE49664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43D-CBFD-4E7D-8F47-9BAABD9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54E-4C0F-4353-B024-EC5E173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DBD-F43E-4E36-95A5-48CD4EED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2FB-6BCC-4939-8783-9E573031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94C-8B67-4F45-AE00-369B3D2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280-5C2D-4B1B-9D32-AB215AB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8E4-433C-4164-B9E4-026154D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0E8-B147-41C5-948F-F8A53A956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765600"/>
            <a:ext cx="259092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LOISE KE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ydrogeo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57200"/>
            <a:ext cx="7467840" cy="24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GROUND-WATER PUMP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TREAMFLOW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UPPER CLARK FORK BA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752840" cy="682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44" name=""/>
          <p:cNvGrpSpPr/>
          <p:nvPr/>
        </p:nvGrpSpPr>
        <p:grpSpPr>
          <a:xfrm>
            <a:off x="2514600" y="3048120"/>
            <a:ext cx="3809520" cy="3428640"/>
            <a:chOff x="2514600" y="3048120"/>
            <a:chExt cx="3809520" cy="3428640"/>
          </a:xfrm>
        </p:grpSpPr>
        <p:sp>
          <p:nvSpPr>
            <p:cNvPr id="45" name=""/>
            <p:cNvSpPr/>
            <p:nvPr/>
          </p:nvSpPr>
          <p:spPr>
            <a:xfrm>
              <a:off x="2538360" y="3071880"/>
              <a:ext cx="3785760" cy="340488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62120" y="3095640"/>
              <a:ext cx="3738240" cy="335484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538360" y="3071880"/>
              <a:ext cx="3738240" cy="3355560"/>
            </a:xfrm>
            <a:prstGeom prst="rect">
              <a:avLst/>
            </a:prstGeom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48" name=""/>
            <p:cNvSpPr/>
            <p:nvPr/>
          </p:nvSpPr>
          <p:spPr>
            <a:xfrm>
              <a:off x="2514600" y="3048120"/>
              <a:ext cx="3785760" cy="340272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477120" y="3765600"/>
            <a:ext cx="25905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k Fork Sympos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oula,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ril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5228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treamflow depletion: The inevitable consequence of ground-water withdraw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3340080"/>
          </a:xfrm>
          <a:prstGeom prst="rect">
            <a:avLst/>
          </a:prstGeom>
          <a:ln w="38160">
            <a:solidFill>
              <a:srgbClr val="000080"/>
            </a:solidFill>
            <a:miter/>
          </a:ln>
          <a:effectLst>
            <a:outerShdw dist="63504" dir="3183908" blurRad="0" rotWithShape="0">
              <a:srgbClr val="ff9900"/>
            </a:outerShdw>
          </a:effectLst>
        </p:spPr>
      </p:pic>
      <p:sp>
        <p:nvSpPr>
          <p:cNvPr id="141" name=""/>
          <p:cNvSpPr/>
          <p:nvPr/>
        </p:nvSpPr>
        <p:spPr>
          <a:xfrm>
            <a:off x="2666880" y="4983120"/>
            <a:ext cx="624852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Fuyang Basin, North China Plain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(Kendy, 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e also: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 Rounded MT Bold"/>
              </a:rPr>
              <a:t>WATER FOLLIES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by R. Gle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5029200"/>
          <a:ext cx="190476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029200"/>
                    <a:ext cx="1904760" cy="1523880"/>
                  </a:xfrm>
                  <a:prstGeom prst="rect">
                    <a:avLst/>
                  </a:prstGeom>
                  <a:ln w="284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3480" y="5482080"/>
            <a:ext cx="11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CH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60480"/>
            <a:ext cx="86868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Converting from flood to sprinkler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A soluti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050840"/>
            <a:ext cx="8229600" cy="1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5530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ke Roberts, Hydrologist, Montana DNRC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RB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4640" y="1295280"/>
            <a:ext cx="3938760" cy="34290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938760" cy="34290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150" name=""/>
          <p:cNvGrpSpPr/>
          <p:nvPr/>
        </p:nvGrpSpPr>
        <p:grpSpPr>
          <a:xfrm>
            <a:off x="304920" y="4807080"/>
            <a:ext cx="8686800" cy="4117320"/>
            <a:chOff x="304920" y="4807080"/>
            <a:chExt cx="8686800" cy="4117320"/>
          </a:xfrm>
        </p:grpSpPr>
        <p:sp>
          <p:nvSpPr>
            <p:cNvPr id="151" name=""/>
            <p:cNvSpPr/>
            <p:nvPr/>
          </p:nvSpPr>
          <p:spPr>
            <a:xfrm>
              <a:off x="304920" y="4807080"/>
              <a:ext cx="8686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streamflow withdrawals, but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creased crop yields, increased irrigated ac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creased evapotranspiration (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consumption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return fl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stream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526392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564516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602604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7200" y="6407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28954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52280"/>
            <a:ext cx="87631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eld-scale vs. basin-scale irrigation e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09480"/>
            <a:ext cx="7315200" cy="1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990720"/>
            <a:ext cx="5791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cause of return flow, water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n be inefficient at th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ale, yet highly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e basin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771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ller et al, 1996, IWMI Research Report 3, fig. 2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981080"/>
            <a:ext cx="1143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362320" y="1447560"/>
            <a:ext cx="0" cy="53316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9718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8862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8006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26120" y="42670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62720" y="33526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038480" y="24382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362320"/>
            <a:ext cx="45720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791320"/>
            <a:ext cx="60948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029200"/>
            <a:ext cx="60984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191120"/>
            <a:ext cx="53352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5812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41972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51814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444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10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.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.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.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562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.25 AF      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343400"/>
            <a:ext cx="34290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-scale: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sin-scale: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16328" t="0" r="0" b="0"/>
          <a:stretch/>
        </p:blipFill>
        <p:spPr>
          <a:xfrm>
            <a:off x="380880" y="3048120"/>
            <a:ext cx="3124440" cy="2450880"/>
          </a:xfrm>
          <a:prstGeom prst="rect">
            <a:avLst/>
          </a:prstGeom>
          <a:ln w="3816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189" name=""/>
          <p:cNvSpPr/>
          <p:nvPr/>
        </p:nvSpPr>
        <p:spPr>
          <a:xfrm>
            <a:off x="340200" y="252360"/>
            <a:ext cx="1953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920" y="838080"/>
            <a:ext cx="182880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225440"/>
            <a:ext cx="4267080" cy="15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n closur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right tra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juncti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357200"/>
            <a:ext cx="17280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911240"/>
            <a:ext cx="17280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252360"/>
            <a:ext cx="1953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174680"/>
            <a:ext cx="205740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High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vert surface water into recharge ba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6324480"/>
            <a:ext cx="1047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92600" y="3003480"/>
            <a:ext cx="4191120" cy="3429000"/>
            <a:chOff x="4692600" y="3003480"/>
            <a:chExt cx="4191120" cy="3429000"/>
          </a:xfrm>
        </p:grpSpPr>
        <p:sp>
          <p:nvSpPr>
            <p:cNvPr id="198" name=""/>
            <p:cNvSpPr/>
            <p:nvPr/>
          </p:nvSpPr>
          <p:spPr>
            <a:xfrm>
              <a:off x="4692600" y="3003480"/>
              <a:ext cx="4191120" cy="3429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724280" y="3048120"/>
              <a:ext cx="4114800" cy="3348000"/>
              <a:chOff x="4724280" y="3048120"/>
              <a:chExt cx="4114800" cy="33480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3048120"/>
                <a:ext cx="4114800" cy="33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4724280" y="3048120"/>
                <a:ext cx="1066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86040" y="304812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24280" y="3733920"/>
                <a:ext cx="6858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7543800" y="6248520"/>
            <a:ext cx="1295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39040" y="3048120"/>
            <a:ext cx="3049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66000" y="2819520"/>
            <a:ext cx="0" cy="129528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0560" y="2424240"/>
            <a:ext cx="173160" cy="17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267080" y="5257800"/>
            <a:ext cx="152424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200040" y="4876920"/>
            <a:ext cx="1066680" cy="38088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95880" y="6134040"/>
            <a:ext cx="260640" cy="21276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867280"/>
            <a:ext cx="28195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itoring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753080" y="6264360"/>
            <a:ext cx="1342800" cy="136440"/>
            <a:chOff x="4753080" y="6264360"/>
            <a:chExt cx="1342800" cy="136440"/>
          </a:xfrm>
        </p:grpSpPr>
        <p:sp>
          <p:nvSpPr>
            <p:cNvPr id="213" name=""/>
            <p:cNvSpPr/>
            <p:nvPr/>
          </p:nvSpPr>
          <p:spPr>
            <a:xfrm>
              <a:off x="4753080" y="6264360"/>
              <a:ext cx="129528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9920" y="6324480"/>
              <a:ext cx="759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 flipV="1">
            <a:off x="4190760" y="6113160"/>
            <a:ext cx="1904760" cy="22860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229600" y="914040"/>
            <a:ext cx="0" cy="259092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12920"/>
            <a:ext cx="464796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harge treated waste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64771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GS Circular1247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299120"/>
            <a:ext cx="18288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Low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 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14240" y="990720"/>
            <a:ext cx="84297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 water and surface water are conn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consumption reduces stream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basin closures encou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consum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bilizing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onsumptio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sustaining stream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juncti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ess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14300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800" y="170496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6560" y="304920"/>
            <a:ext cx="205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1880" y="5713560"/>
            <a:ext cx="8148600" cy="144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638680"/>
            <a:ext cx="81486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28600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58128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1752480" cy="682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229" name=""/>
          <p:cNvGrpSpPr/>
          <p:nvPr/>
        </p:nvGrpSpPr>
        <p:grpSpPr>
          <a:xfrm>
            <a:off x="5181480" y="2133720"/>
            <a:ext cx="3657240" cy="3123720"/>
            <a:chOff x="5181480" y="2133720"/>
            <a:chExt cx="3657240" cy="3123720"/>
          </a:xfrm>
        </p:grpSpPr>
        <p:sp>
          <p:nvSpPr>
            <p:cNvPr id="230" name=""/>
            <p:cNvSpPr/>
            <p:nvPr/>
          </p:nvSpPr>
          <p:spPr>
            <a:xfrm>
              <a:off x="5204160" y="2155320"/>
              <a:ext cx="3634560" cy="310212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7200" y="2176920"/>
              <a:ext cx="3588840" cy="305676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5204160" y="2155320"/>
              <a:ext cx="3588840" cy="3057120"/>
            </a:xfrm>
            <a:prstGeom prst="rect">
              <a:avLst/>
            </a:prstGeom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233" name=""/>
            <p:cNvSpPr/>
            <p:nvPr/>
          </p:nvSpPr>
          <p:spPr>
            <a:xfrm>
              <a:off x="5181480" y="2133720"/>
              <a:ext cx="3634560" cy="309996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80880" y="485604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979560"/>
            <a:ext cx="7925040" cy="42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inter, T.C., Harvey, J.W., Franke, O.L., and Alley, W.M., 1998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round Water and Surface Water: A Single Resourc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. U.S. Geological Survey Circular 1139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ater.usgs.gov/pubs/circ/circ113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1-888-ASK-USGS (1-888-275-87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lennon, Robert, 2002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Follies: Groundwater Pum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and the Fate of Americ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Fresh Waters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.  Island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243000"/>
            <a:ext cx="510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For Further Inf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9548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8098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758960" cy="7128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240" name=""/>
          <p:cNvGrpSpPr/>
          <p:nvPr/>
        </p:nvGrpSpPr>
        <p:grpSpPr>
          <a:xfrm>
            <a:off x="5791320" y="3733920"/>
            <a:ext cx="2971440" cy="2742840"/>
            <a:chOff x="5791320" y="3733920"/>
            <a:chExt cx="2971440" cy="2742840"/>
          </a:xfrm>
        </p:grpSpPr>
        <p:sp>
          <p:nvSpPr>
            <p:cNvPr id="241" name=""/>
            <p:cNvSpPr/>
            <p:nvPr/>
          </p:nvSpPr>
          <p:spPr>
            <a:xfrm>
              <a:off x="5809680" y="3752640"/>
              <a:ext cx="2953080" cy="272412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8400" y="3771720"/>
              <a:ext cx="2916000" cy="268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5809680" y="3752640"/>
              <a:ext cx="2916000" cy="26845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244" name=""/>
            <p:cNvSpPr/>
            <p:nvPr/>
          </p:nvSpPr>
          <p:spPr>
            <a:xfrm>
              <a:off x="5791320" y="3733920"/>
              <a:ext cx="2953080" cy="272232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036800" y="5443560"/>
            <a:ext cx="41446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5400" y="5334120"/>
            <a:ext cx="4145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571500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Eloise Kendy, Ph.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(406) 495-99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ek65@cornell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0732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 Rounded MT Bold"/>
              </a:rPr>
              <a:t>FRE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787" t="0" r="0" b="0"/>
          <a:stretch/>
        </p:blipFill>
        <p:spPr>
          <a:xfrm>
            <a:off x="4419720" y="2238480"/>
            <a:ext cx="4114800" cy="332424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457200" y="6172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ke Roberts, Hydrologist, Montana DNRC WRB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847960"/>
            <a:ext cx="4198680" cy="332424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457200" y="228600"/>
            <a:ext cx="822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Low streamflow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828720"/>
            <a:ext cx="8686800" cy="1557000"/>
            <a:chOff x="380880" y="828720"/>
            <a:chExt cx="8686800" cy="1557000"/>
          </a:xfrm>
        </p:grpSpPr>
        <p:sp>
          <p:nvSpPr>
            <p:cNvPr id="55" name=""/>
            <p:cNvSpPr/>
            <p:nvPr/>
          </p:nvSpPr>
          <p:spPr>
            <a:xfrm>
              <a:off x="380880" y="82872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Habitat reduction; stressed fish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ecreased or expensive power ge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ecreased agricultural p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creation 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160" y="128592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160" y="16671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160" y="204804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33520" y="9493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579132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00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654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27920" y="6248520"/>
            <a:ext cx="228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3520" y="870120"/>
          <a:ext cx="8076960" cy="45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70120"/>
                    <a:ext cx="80769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181480" y="6432480"/>
            <a:ext cx="228600" cy="228600"/>
          </a:xfrm>
          <a:prstGeom prst="rect">
            <a:avLst/>
          </a:prstGeom>
          <a:solidFill>
            <a:srgbClr val="b2e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533920"/>
            <a:ext cx="57913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led ground-water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tana Supreme Court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pt. ordered Milk River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000"/>
            <a:ext cx="8763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Rounded MT Bold"/>
              </a:rPr>
              <a:t>Water Closures, Compacts, and Controll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340320"/>
            <a:ext cx="228600" cy="228600"/>
          </a:xfrm>
          <a:prstGeom prst="rect">
            <a:avLst/>
          </a:prstGeom>
          <a:solidFill>
            <a:srgbClr val="9ad1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360" y="5648400"/>
            <a:ext cx="22860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670720"/>
            <a:ext cx="228600" cy="228600"/>
          </a:xfrm>
          <a:prstGeom prst="rect">
            <a:avLst/>
          </a:prstGeom>
          <a:solidFill>
            <a:srgbClr val="bad8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6051600"/>
            <a:ext cx="228600" cy="228600"/>
          </a:xfrm>
          <a:prstGeom prst="rect">
            <a:avLst/>
          </a:prstGeom>
          <a:solidFill>
            <a:srgbClr val="efd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997600"/>
            <a:ext cx="228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832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ntana DNRC March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518080"/>
            <a:ext cx="381024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closur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gislative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ministrative rule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1195560"/>
            <a:ext cx="701028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40" y="685800"/>
            <a:ext cx="844056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Upper Clark Fork River Basin 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704240"/>
            <a:ext cx="7238880" cy="214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CA § 85-2-3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pplication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GROUND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879000"/>
            <a:ext cx="72388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medial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ock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.  Water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wer generation at existing d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59084" b="17739"/>
          <a:stretch/>
        </p:blipFill>
        <p:spPr>
          <a:xfrm>
            <a:off x="5105520" y="1828800"/>
            <a:ext cx="2357280" cy="3200400"/>
          </a:xfrm>
          <a:prstGeom prst="rect">
            <a:avLst/>
          </a:prstGeom>
          <a:ln w="3168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85800" y="1600200"/>
          <a:ext cx="7848360" cy="4191120"/>
        </p:xfrm>
        <a:graphic>
          <a:graphicData uri="http://schemas.openxmlformats.org/drawingml/2006/table">
            <a:tbl>
              <a:tblPr/>
              <a:tblGrid>
                <a:gridCol w="2063520"/>
                <a:gridCol w="2062440"/>
                <a:gridCol w="2063520"/>
                <a:gridCol w="1658880"/>
              </a:tblGrid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 of PERM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CF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Section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PER MISSOU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,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,2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1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PER CLARK F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3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0.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kn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47720" y="609480"/>
            <a:ext cx="7767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New ground-water permits since basin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200" y="1066680"/>
            <a:ext cx="796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39960" y="441360"/>
            <a:ext cx="6984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oiding regulation: Individual w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8880" y="106668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057400"/>
            <a:ext cx="4038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DNRC PERMI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ermit application requir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&lt;35 gpm, &lt;10 ac-ft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DEQ SUB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impac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domestic 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692440"/>
            <a:ext cx="17316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03760"/>
            <a:ext cx="17316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6384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1972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3571920" cy="21002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63600" y="1087560"/>
            <a:ext cx="9050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343400" y="1447920"/>
            <a:ext cx="4266720" cy="2971800"/>
            <a:chOff x="4343400" y="1447920"/>
            <a:chExt cx="4266720" cy="2971800"/>
          </a:xfrm>
        </p:grpSpPr>
        <p:grpSp>
          <p:nvGrpSpPr>
            <p:cNvPr id="94" name=""/>
            <p:cNvGrpSpPr/>
            <p:nvPr/>
          </p:nvGrpSpPr>
          <p:grpSpPr>
            <a:xfrm>
              <a:off x="4343400" y="1447920"/>
              <a:ext cx="4266720" cy="2971800"/>
              <a:chOff x="4343400" y="1447920"/>
              <a:chExt cx="4266720" cy="297180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2040" y="1447920"/>
                <a:ext cx="2087640" cy="148572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17360" y="1450440"/>
                <a:ext cx="2192760" cy="148572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43400" y="2933640"/>
                <a:ext cx="2087280" cy="148608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</p:grpSp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6417360" y="2933640"/>
              <a:ext cx="2192760" cy="148608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cc3300"/>
              </a:outerShdw>
            </a:effectLst>
          </p:spPr>
        </p:pic>
      </p:grp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111400" y="161280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30160" y="6553080"/>
            <a:ext cx="29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www.crowchief.com/lot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9200" y="396720"/>
            <a:ext cx="1739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560" y="378000"/>
            <a:ext cx="17398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360" y="334800"/>
            <a:ext cx="79866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Rounded MT Bold"/>
              </a:rPr>
              <a:t>Ground water and surface water are conn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0120" y="1295280"/>
            <a:ext cx="7933680" cy="4834800"/>
            <a:chOff x="600120" y="1295280"/>
            <a:chExt cx="7933680" cy="4834800"/>
          </a:xfrm>
        </p:grpSpPr>
        <p:sp>
          <p:nvSpPr>
            <p:cNvPr id="105" name=""/>
            <p:cNvSpPr/>
            <p:nvPr/>
          </p:nvSpPr>
          <p:spPr>
            <a:xfrm>
              <a:off x="619200" y="1314720"/>
              <a:ext cx="7914600" cy="48153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000" y="1333800"/>
              <a:ext cx="7894800" cy="479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19200" y="1314720"/>
              <a:ext cx="7895520" cy="479628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108" name=""/>
            <p:cNvSpPr/>
            <p:nvPr/>
          </p:nvSpPr>
          <p:spPr>
            <a:xfrm>
              <a:off x="600120" y="1295280"/>
              <a:ext cx="7914600" cy="48160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84840" y="6377040"/>
            <a:ext cx="3183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6720" y="6324480"/>
            <a:ext cx="310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nter et al, USGS Circular 1139, fig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8920" y="5945040"/>
            <a:ext cx="4368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5200" y="301680"/>
            <a:ext cx="262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sin 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814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052640"/>
            <a:ext cx="8915400" cy="64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CEPTION for new GROUND-WATER appropri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36232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Water that is beneath the land surface or beneath the bed of a stream, lake, reservoir, or other body of surface water and that is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t immediately or directly connected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to surface water”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CA §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5-2-329, 340, 3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t substantially or directly connected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to surface water”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CA §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5-2-3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“any ground water”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(DNRC or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814400"/>
            <a:ext cx="8001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here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Ground Water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371680"/>
            <a:ext cx="182880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pper Missouri, T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pper Clark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uss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hell,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3854520"/>
            <a:ext cx="5410440" cy="15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9528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165560" y="723960"/>
          <a:ext cx="4216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5560" y="723960"/>
                    <a:ext cx="4216320" cy="174780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165560" y="2705040"/>
          <a:ext cx="421632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2705040"/>
                    <a:ext cx="4216320" cy="181764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165560" y="4762440"/>
          <a:ext cx="42163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762440"/>
                    <a:ext cx="4216320" cy="171468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e-p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655308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ley et al, 1999, USGS Circular 1186, fig.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66880"/>
            <a:ext cx="380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ater-right applicatio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380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ater-right application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267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E OF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962520" y="3657240"/>
            <a:ext cx="3352680" cy="762120"/>
          </a:xfrm>
          <a:prstGeom prst="line">
            <a:avLst/>
          </a:prstGeom>
          <a:ln w="316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495680"/>
            <a:ext cx="3276360" cy="1219320"/>
          </a:xfrm>
          <a:prstGeom prst="line">
            <a:avLst/>
          </a:prstGeom>
          <a:ln w="316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76320" y="54864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UCED SURFACE-WATER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52280" y="3124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TURED TRIBUTARY GROU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6720" y="76320"/>
            <a:ext cx="5546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Effects of ground-water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480"/>
            <a:ext cx="55627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33520"/>
            <a:ext cx="556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49:30Z</dcterms:created>
  <dc:creator>ABEN</dc:creator>
  <dc:description/>
  <dc:language>en-US</dc:language>
  <cp:lastModifiedBy>Eloise Kendy</cp:lastModifiedBy>
  <cp:lastPrinted>2003-04-23T20:20:13Z</cp:lastPrinted>
  <dcterms:modified xsi:type="dcterms:W3CDTF">2005-02-24T23:04:47Z</dcterms:modified>
  <cp:revision>415</cp:revision>
  <dc:subject/>
  <dc:title>No Slide Title</dc:title>
</cp:coreProperties>
</file>