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-454025" cy="-45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9DF-C7EB-4365-B16D-7C653C64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A42-936B-44F2-9AE7-EF6110EE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00E-4C9B-4806-9A2E-FAA55F39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D24-B657-454F-B137-0C158F0F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FCC-608D-4B4B-84B3-0800211B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A82-02AC-4D99-9FD1-ACB6745F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99E-7354-43CD-8ABB-382B99C6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87C-3960-4124-9766-CD668F5A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AA4-0622-4D11-AF79-F567D4D2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CB4-EFEF-4D88-BF9B-6110C46C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157-B7CE-410A-8255-A1BCC232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A4C-1106-49A5-B7F7-15CAE224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EF88-B724-49DF-BF13-901FC44E6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765600"/>
            <a:ext cx="259092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LOISE KE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ydrogeolog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457200"/>
            <a:ext cx="7467840" cy="24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GROUND-WATER PUMP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STREAMFLOW DEPL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UPPER CLARK FORK BA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752840" cy="68256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grpSp>
        <p:nvGrpSpPr>
          <p:cNvPr id="44" name=""/>
          <p:cNvGrpSpPr/>
          <p:nvPr/>
        </p:nvGrpSpPr>
        <p:grpSpPr>
          <a:xfrm>
            <a:off x="2514600" y="3048120"/>
            <a:ext cx="3809520" cy="3428640"/>
            <a:chOff x="2514600" y="3048120"/>
            <a:chExt cx="3809520" cy="3428640"/>
          </a:xfrm>
        </p:grpSpPr>
        <p:sp>
          <p:nvSpPr>
            <p:cNvPr id="45" name=""/>
            <p:cNvSpPr/>
            <p:nvPr/>
          </p:nvSpPr>
          <p:spPr>
            <a:xfrm>
              <a:off x="2538360" y="3071880"/>
              <a:ext cx="3785760" cy="340488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62120" y="3095640"/>
              <a:ext cx="3738240" cy="3354840"/>
            </a:xfrm>
            <a:prstGeom prst="rect">
              <a:avLst/>
            </a:prstGeom>
            <a:solidFill>
              <a:srgbClr val="000000"/>
            </a:solidFill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538360" y="3071880"/>
              <a:ext cx="3738240" cy="3355560"/>
            </a:xfrm>
            <a:prstGeom prst="rect">
              <a:avLst/>
            </a:prstGeom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</p:pic>
        <p:sp>
          <p:nvSpPr>
            <p:cNvPr id="48" name=""/>
            <p:cNvSpPr/>
            <p:nvPr/>
          </p:nvSpPr>
          <p:spPr>
            <a:xfrm>
              <a:off x="2514600" y="3048120"/>
              <a:ext cx="3785760" cy="340272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477120" y="3765600"/>
            <a:ext cx="259056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k Fork Sympos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soula, 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ril 1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52280"/>
            <a:ext cx="8610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Streamflow depletion: The inevitable consequence of ground-water withdraw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3340080"/>
          </a:xfrm>
          <a:prstGeom prst="rect">
            <a:avLst/>
          </a:prstGeom>
          <a:ln w="38160">
            <a:solidFill>
              <a:srgbClr val="000080"/>
            </a:solidFill>
            <a:miter/>
          </a:ln>
          <a:effectLst>
            <a:outerShdw dist="63504" dir="3183908" blurRad="0" rotWithShape="0">
              <a:srgbClr val="ff9900"/>
            </a:outerShdw>
          </a:effectLst>
        </p:spPr>
      </p:pic>
      <p:sp>
        <p:nvSpPr>
          <p:cNvPr id="141" name=""/>
          <p:cNvSpPr/>
          <p:nvPr/>
        </p:nvSpPr>
        <p:spPr>
          <a:xfrm>
            <a:off x="2666880" y="4983120"/>
            <a:ext cx="624852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Fuyang Basin, North China Plain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 Rounded MT Bold"/>
              </a:rPr>
              <a:t>(Kendy, 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See also: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 Rounded MT Bold"/>
              </a:rPr>
              <a:t>WATER FOLLIES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 by R. Glen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5029200"/>
          <a:ext cx="190476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029200"/>
                    <a:ext cx="1904760" cy="1523880"/>
                  </a:xfrm>
                  <a:prstGeom prst="rect">
                    <a:avLst/>
                  </a:prstGeom>
                  <a:ln w="284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63480" y="5482080"/>
            <a:ext cx="11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CH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60480"/>
            <a:ext cx="86868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Rounded MT Bold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 Rounded MT Bold"/>
              </a:rPr>
              <a:t>Converting from flood to sprinkler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Rounded MT Bold"/>
              </a:rPr>
              <a:t>A solutio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050840"/>
            <a:ext cx="8229600" cy="1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55308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ke Roberts, Hydrologist, Montana DNRC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RB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4640" y="1295280"/>
            <a:ext cx="3938760" cy="342900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938760" cy="342900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grpSp>
        <p:nvGrpSpPr>
          <p:cNvPr id="150" name=""/>
          <p:cNvGrpSpPr/>
          <p:nvPr/>
        </p:nvGrpSpPr>
        <p:grpSpPr>
          <a:xfrm>
            <a:off x="304920" y="4807080"/>
            <a:ext cx="8686800" cy="4117320"/>
            <a:chOff x="304920" y="4807080"/>
            <a:chExt cx="8686800" cy="4117320"/>
          </a:xfrm>
        </p:grpSpPr>
        <p:sp>
          <p:nvSpPr>
            <p:cNvPr id="151" name=""/>
            <p:cNvSpPr/>
            <p:nvPr/>
          </p:nvSpPr>
          <p:spPr>
            <a:xfrm>
              <a:off x="304920" y="4807080"/>
              <a:ext cx="86868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ecreased streamflow withdrawals, but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ncreased crop yields, increased irrigated ac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ncreased evapotranspiration (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consumption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ecreased return fl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ecreased stream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526392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cc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" y="564516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cc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602604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cc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7200" y="64072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cc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28954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52280"/>
            <a:ext cx="876312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eld-scale vs. basin-scale irrigation effici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09480"/>
            <a:ext cx="7315200" cy="1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990720"/>
            <a:ext cx="57913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cause of return flow, water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n be inefficient at the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ale, yet highly effic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 the basin s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64771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eller et al, 1996, IWMI Research Report 3, fig. 2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1981080"/>
            <a:ext cx="11430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362320" y="1447560"/>
            <a:ext cx="0" cy="53316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971800"/>
            <a:ext cx="99036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8862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48006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026120" y="4267080"/>
            <a:ext cx="0" cy="53352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562720" y="3352680"/>
            <a:ext cx="0" cy="53352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038480" y="2438280"/>
            <a:ext cx="0" cy="53352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2362320"/>
            <a:ext cx="45720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791320"/>
            <a:ext cx="60948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5029200"/>
            <a:ext cx="60984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4191120"/>
            <a:ext cx="53352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666880"/>
            <a:ext cx="0" cy="45720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581280"/>
            <a:ext cx="0" cy="45720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4419720"/>
            <a:ext cx="0" cy="45720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10280" y="5181480"/>
            <a:ext cx="0" cy="45720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1066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0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0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444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0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2100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971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.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.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.2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5562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.25 AF      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4343400"/>
            <a:ext cx="342900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eld-scale: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sin-scale: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16328" t="0" r="0" b="0"/>
          <a:stretch/>
        </p:blipFill>
        <p:spPr>
          <a:xfrm>
            <a:off x="380880" y="3048120"/>
            <a:ext cx="3124440" cy="2450880"/>
          </a:xfrm>
          <a:prstGeom prst="rect">
            <a:avLst/>
          </a:prstGeom>
          <a:ln w="3816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sp>
        <p:nvSpPr>
          <p:cNvPr id="189" name=""/>
          <p:cNvSpPr/>
          <p:nvPr/>
        </p:nvSpPr>
        <p:spPr>
          <a:xfrm>
            <a:off x="340200" y="252360"/>
            <a:ext cx="1953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2920" y="838080"/>
            <a:ext cx="1828800" cy="2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1225440"/>
            <a:ext cx="4267080" cy="153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in closure 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right trad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junctiv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357200"/>
            <a:ext cx="172800" cy="17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911240"/>
            <a:ext cx="172800" cy="17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252360"/>
            <a:ext cx="1953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1174680"/>
            <a:ext cx="2057400" cy="161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High 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ivert surface water into recharge bas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6324480"/>
            <a:ext cx="1047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92600" y="3003480"/>
            <a:ext cx="4191120" cy="3429000"/>
            <a:chOff x="4692600" y="3003480"/>
            <a:chExt cx="4191120" cy="3429000"/>
          </a:xfrm>
        </p:grpSpPr>
        <p:sp>
          <p:nvSpPr>
            <p:cNvPr id="198" name=""/>
            <p:cNvSpPr/>
            <p:nvPr/>
          </p:nvSpPr>
          <p:spPr>
            <a:xfrm>
              <a:off x="4692600" y="3003480"/>
              <a:ext cx="4191120" cy="34290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4724280" y="3048120"/>
              <a:ext cx="4114800" cy="3348000"/>
              <a:chOff x="4724280" y="3048120"/>
              <a:chExt cx="4114800" cy="3348000"/>
            </a:xfrm>
          </p:grpSpPr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4280" y="3048120"/>
                <a:ext cx="4114800" cy="33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4724280" y="3048120"/>
                <a:ext cx="10666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86040" y="3048120"/>
                <a:ext cx="10670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24280" y="3733920"/>
                <a:ext cx="68580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7543800" y="6248520"/>
            <a:ext cx="1295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39040" y="3048120"/>
            <a:ext cx="3049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966000" y="2819520"/>
            <a:ext cx="0" cy="129528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0560" y="2424240"/>
            <a:ext cx="173160" cy="172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267080" y="5257800"/>
            <a:ext cx="1524240" cy="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200040" y="4876920"/>
            <a:ext cx="1066680" cy="38088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095880" y="6134040"/>
            <a:ext cx="260640" cy="21276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5867280"/>
            <a:ext cx="281952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nitoring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753080" y="6264360"/>
            <a:ext cx="1342800" cy="136440"/>
            <a:chOff x="4753080" y="6264360"/>
            <a:chExt cx="1342800" cy="136440"/>
          </a:xfrm>
        </p:grpSpPr>
        <p:sp>
          <p:nvSpPr>
            <p:cNvPr id="213" name=""/>
            <p:cNvSpPr/>
            <p:nvPr/>
          </p:nvSpPr>
          <p:spPr>
            <a:xfrm>
              <a:off x="4753080" y="6264360"/>
              <a:ext cx="1295280" cy="13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9920" y="6324480"/>
              <a:ext cx="7596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 flipV="1">
            <a:off x="4190760" y="6113160"/>
            <a:ext cx="1904760" cy="22860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229600" y="914040"/>
            <a:ext cx="0" cy="259092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412920"/>
            <a:ext cx="464796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harge treated waste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64771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GS Circular1247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4299120"/>
            <a:ext cx="182880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Low 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se ground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14240" y="990720"/>
            <a:ext cx="84297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ound water and surface water are conn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ound-water consumption reduces stream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ound-water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basin closures encour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ound-water consum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bilizing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consumptio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sustaining stream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junctiv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ess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14300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800" y="170496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76560" y="304920"/>
            <a:ext cx="205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1880" y="5713560"/>
            <a:ext cx="8148600" cy="144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638680"/>
            <a:ext cx="8148600" cy="1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28600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58128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5943600"/>
            <a:ext cx="1752480" cy="68256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grpSp>
        <p:nvGrpSpPr>
          <p:cNvPr id="229" name=""/>
          <p:cNvGrpSpPr/>
          <p:nvPr/>
        </p:nvGrpSpPr>
        <p:grpSpPr>
          <a:xfrm>
            <a:off x="5181480" y="2133720"/>
            <a:ext cx="3657240" cy="3123720"/>
            <a:chOff x="5181480" y="2133720"/>
            <a:chExt cx="3657240" cy="3123720"/>
          </a:xfrm>
        </p:grpSpPr>
        <p:sp>
          <p:nvSpPr>
            <p:cNvPr id="230" name=""/>
            <p:cNvSpPr/>
            <p:nvPr/>
          </p:nvSpPr>
          <p:spPr>
            <a:xfrm>
              <a:off x="5204160" y="2155320"/>
              <a:ext cx="3634560" cy="310212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27200" y="2176920"/>
              <a:ext cx="3588840" cy="3056760"/>
            </a:xfrm>
            <a:prstGeom prst="rect">
              <a:avLst/>
            </a:prstGeom>
            <a:solidFill>
              <a:srgbClr val="000000"/>
            </a:solidFill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5204160" y="2155320"/>
              <a:ext cx="3588840" cy="3057120"/>
            </a:xfrm>
            <a:prstGeom prst="rect">
              <a:avLst/>
            </a:prstGeom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</p:pic>
        <p:sp>
          <p:nvSpPr>
            <p:cNvPr id="233" name=""/>
            <p:cNvSpPr/>
            <p:nvPr/>
          </p:nvSpPr>
          <p:spPr>
            <a:xfrm>
              <a:off x="5181480" y="2133720"/>
              <a:ext cx="3634560" cy="309996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80880" y="485604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8080" y="979560"/>
            <a:ext cx="7925040" cy="424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inter, T.C., Harvey, J.W., Franke, O.L., and Alley, W.M., 1998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Ground Water and Surface Water: A Single Resourc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. U.S. Geological Survey Circular 1139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http://water.usgs.gov/pubs/circ/circ113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1-888-ASK-USGS (1-888-275-87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lennon, Robert, 2002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Follies: Groundwater Pum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and the Fate of Americ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Fresh Waters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.  Island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243000"/>
            <a:ext cx="5105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For Further Info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9548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3809880"/>
            <a:ext cx="17280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90720" y="5715000"/>
            <a:ext cx="1758960" cy="71280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grpSp>
        <p:nvGrpSpPr>
          <p:cNvPr id="240" name=""/>
          <p:cNvGrpSpPr/>
          <p:nvPr/>
        </p:nvGrpSpPr>
        <p:grpSpPr>
          <a:xfrm>
            <a:off x="5791320" y="3733920"/>
            <a:ext cx="2971440" cy="2742840"/>
            <a:chOff x="5791320" y="3733920"/>
            <a:chExt cx="2971440" cy="2742840"/>
          </a:xfrm>
        </p:grpSpPr>
        <p:sp>
          <p:nvSpPr>
            <p:cNvPr id="241" name=""/>
            <p:cNvSpPr/>
            <p:nvPr/>
          </p:nvSpPr>
          <p:spPr>
            <a:xfrm>
              <a:off x="5809680" y="3752640"/>
              <a:ext cx="2953080" cy="272412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28400" y="3771720"/>
              <a:ext cx="2916000" cy="268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5809680" y="3752640"/>
              <a:ext cx="2916000" cy="268452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</p:pic>
        <p:sp>
          <p:nvSpPr>
            <p:cNvPr id="244" name=""/>
            <p:cNvSpPr/>
            <p:nvPr/>
          </p:nvSpPr>
          <p:spPr>
            <a:xfrm>
              <a:off x="5791320" y="3733920"/>
              <a:ext cx="2953080" cy="272232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036800" y="5443560"/>
            <a:ext cx="41446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5400" y="5334120"/>
            <a:ext cx="414504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571500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mic Sans MS"/>
              </a:rPr>
              <a:t>Eloise Kendy, Ph.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mic Sans MS"/>
              </a:rPr>
              <a:t>(406) 495-99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mic Sans MS"/>
              </a:rPr>
              <a:t>ek65@cornell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20732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 Rounded MT Bold"/>
              </a:rPr>
              <a:t>FRE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3787" t="0" r="0" b="0"/>
          <a:stretch/>
        </p:blipFill>
        <p:spPr>
          <a:xfrm>
            <a:off x="4419720" y="2238480"/>
            <a:ext cx="4114800" cy="332424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457200" y="61722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ke Roberts, Hydrologist, Montana DNRC WRB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2847960"/>
            <a:ext cx="4198680" cy="332424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sp>
        <p:nvSpPr>
          <p:cNvPr id="53" name=""/>
          <p:cNvSpPr/>
          <p:nvPr/>
        </p:nvSpPr>
        <p:spPr>
          <a:xfrm>
            <a:off x="457200" y="228600"/>
            <a:ext cx="8229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Low streamflow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880" y="828720"/>
            <a:ext cx="8686800" cy="1557000"/>
            <a:chOff x="380880" y="828720"/>
            <a:chExt cx="8686800" cy="1557000"/>
          </a:xfrm>
        </p:grpSpPr>
        <p:sp>
          <p:nvSpPr>
            <p:cNvPr id="55" name=""/>
            <p:cNvSpPr/>
            <p:nvPr/>
          </p:nvSpPr>
          <p:spPr>
            <a:xfrm>
              <a:off x="380880" y="82872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Habitat reduction; stressed fishe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ecreased or expensive power gen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ecreased agricultural pro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creation 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160" y="128592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160" y="166716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160" y="204804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33520" y="94932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579132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ffff00"/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56545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27920" y="6248520"/>
            <a:ext cx="2286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3520" y="870120"/>
          <a:ext cx="8076960" cy="45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70120"/>
                    <a:ext cx="80769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181480" y="6432480"/>
            <a:ext cx="228600" cy="228600"/>
          </a:xfrm>
          <a:prstGeom prst="rect">
            <a:avLst/>
          </a:prstGeom>
          <a:solidFill>
            <a:srgbClr val="b2e8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533920"/>
            <a:ext cx="57913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led ground-water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ntana Supreme Court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pt. ordered Milk River clo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43000"/>
            <a:ext cx="8763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Rounded MT Bold"/>
              </a:rPr>
              <a:t>Water Closures, Compacts, and Controlled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340320"/>
            <a:ext cx="228600" cy="228600"/>
          </a:xfrm>
          <a:prstGeom prst="rect">
            <a:avLst/>
          </a:prstGeom>
          <a:solidFill>
            <a:srgbClr val="9ad1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5360" y="5648400"/>
            <a:ext cx="22860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5670720"/>
            <a:ext cx="228600" cy="228600"/>
          </a:xfrm>
          <a:prstGeom prst="rect">
            <a:avLst/>
          </a:prstGeom>
          <a:solidFill>
            <a:srgbClr val="bad8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6051600"/>
            <a:ext cx="228600" cy="228600"/>
          </a:xfrm>
          <a:prstGeom prst="rect">
            <a:avLst/>
          </a:prstGeom>
          <a:solidFill>
            <a:srgbClr val="efd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997600"/>
            <a:ext cx="22860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832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ontana DNRC March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5518080"/>
            <a:ext cx="3810240" cy="1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ct closure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gislative clo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ministrative rule clo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1195560"/>
            <a:ext cx="7010280" cy="2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640" y="685800"/>
            <a:ext cx="844056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Upper Clark Fork River Basin 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704240"/>
            <a:ext cx="7238880" cy="214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CA § 85-2-3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Applications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GROUND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3879000"/>
            <a:ext cx="723888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medial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ock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.  Water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ower generation at existing d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59084" b="17739"/>
          <a:stretch/>
        </p:blipFill>
        <p:spPr>
          <a:xfrm>
            <a:off x="5105520" y="1828800"/>
            <a:ext cx="2357280" cy="3200400"/>
          </a:xfrm>
          <a:prstGeom prst="rect">
            <a:avLst/>
          </a:prstGeom>
          <a:ln w="3168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85800" y="1600200"/>
          <a:ext cx="7848360" cy="4191120"/>
        </p:xfrm>
        <a:graphic>
          <a:graphicData uri="http://schemas.openxmlformats.org/drawingml/2006/table">
            <a:tbl>
              <a:tblPr/>
              <a:tblGrid>
                <a:gridCol w="2063520"/>
                <a:gridCol w="2062440"/>
                <a:gridCol w="2063520"/>
                <a:gridCol w="1658880"/>
              </a:tblGrid>
              <a:tr h="103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A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MBER of PERM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CF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Section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PPER MISSOU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8,4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8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,2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11.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PPER CLARK F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,3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0.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nknow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747720" y="609480"/>
            <a:ext cx="776700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New ground-water permits since basin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143000"/>
            <a:ext cx="79246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200" y="1066680"/>
            <a:ext cx="796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39960" y="441360"/>
            <a:ext cx="69847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voiding regulation: Individual we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8880" y="1066680"/>
            <a:ext cx="800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057400"/>
            <a:ext cx="40388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DNRC PERMIT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ermit application required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&lt;35 gpm, &lt;10 ac-ft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DEQ SUB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impact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domestic 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692440"/>
            <a:ext cx="173160" cy="17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703760"/>
            <a:ext cx="173160" cy="17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63840"/>
            <a:ext cx="3657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419720"/>
            <a:ext cx="2895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14800" y="4191120"/>
            <a:ext cx="3571920" cy="210024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63600" y="1087560"/>
            <a:ext cx="9050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4343400" y="1447920"/>
            <a:ext cx="4266720" cy="2971800"/>
            <a:chOff x="4343400" y="1447920"/>
            <a:chExt cx="4266720" cy="2971800"/>
          </a:xfrm>
        </p:grpSpPr>
        <p:grpSp>
          <p:nvGrpSpPr>
            <p:cNvPr id="94" name=""/>
            <p:cNvGrpSpPr/>
            <p:nvPr/>
          </p:nvGrpSpPr>
          <p:grpSpPr>
            <a:xfrm>
              <a:off x="4343400" y="1447920"/>
              <a:ext cx="4266720" cy="2971800"/>
              <a:chOff x="4343400" y="1447920"/>
              <a:chExt cx="4266720" cy="2971800"/>
            </a:xfrm>
          </p:grpSpPr>
          <p:pic>
            <p:nvPicPr>
              <p:cNvPr id="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52040" y="1447920"/>
                <a:ext cx="2087640" cy="1485720"/>
              </a:xfrm>
              <a:prstGeom prst="rect">
                <a:avLst/>
              </a:prstGeom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cc3300"/>
                </a:outerShdw>
              </a:effectLst>
            </p:spPr>
          </p:pic>
          <p:pic>
            <p:nvPicPr>
              <p:cNvPr id="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17360" y="1450440"/>
                <a:ext cx="2192760" cy="1485720"/>
              </a:xfrm>
              <a:prstGeom prst="rect">
                <a:avLst/>
              </a:prstGeom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cc3300"/>
                </a:outerShdw>
              </a:effectLst>
            </p:spPr>
          </p:pic>
          <p:pic>
            <p:nvPicPr>
              <p:cNvPr id="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43400" y="2933640"/>
                <a:ext cx="2087280" cy="1486080"/>
              </a:xfrm>
              <a:prstGeom prst="rect">
                <a:avLst/>
              </a:prstGeom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cc3300"/>
                </a:outerShdw>
              </a:effectLst>
            </p:spPr>
          </p:pic>
        </p:grpSp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6417360" y="2933640"/>
              <a:ext cx="2192760" cy="148608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cc3300"/>
              </a:outerShdw>
            </a:effectLst>
          </p:spPr>
        </p:pic>
      </p:grp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111400" y="161280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230160" y="6553080"/>
            <a:ext cx="29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ttp://www.crowchief.com/lot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9200" y="396720"/>
            <a:ext cx="1739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560" y="378000"/>
            <a:ext cx="17398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360" y="334800"/>
            <a:ext cx="798660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Rounded MT Bold"/>
              </a:rPr>
              <a:t>Ground water and surface water are conn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0120" y="1295280"/>
            <a:ext cx="7933680" cy="4834800"/>
            <a:chOff x="600120" y="1295280"/>
            <a:chExt cx="7933680" cy="4834800"/>
          </a:xfrm>
        </p:grpSpPr>
        <p:sp>
          <p:nvSpPr>
            <p:cNvPr id="105" name=""/>
            <p:cNvSpPr/>
            <p:nvPr/>
          </p:nvSpPr>
          <p:spPr>
            <a:xfrm>
              <a:off x="619200" y="1314720"/>
              <a:ext cx="7914600" cy="48153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000" y="1333800"/>
              <a:ext cx="7894800" cy="4796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19200" y="1314720"/>
              <a:ext cx="7895520" cy="479628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</p:pic>
        <p:sp>
          <p:nvSpPr>
            <p:cNvPr id="108" name=""/>
            <p:cNvSpPr/>
            <p:nvPr/>
          </p:nvSpPr>
          <p:spPr>
            <a:xfrm>
              <a:off x="600120" y="1295280"/>
              <a:ext cx="7914600" cy="481608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784840" y="6377040"/>
            <a:ext cx="3183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36720" y="6324480"/>
            <a:ext cx="310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nter et al, USGS Circular 1139, fig.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88920" y="5945040"/>
            <a:ext cx="4368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838080"/>
            <a:ext cx="8305920" cy="0"/>
          </a:xfrm>
          <a:prstGeom prst="line">
            <a:avLst/>
          </a:prstGeom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5200" y="301680"/>
            <a:ext cx="262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asin Clo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8143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052640"/>
            <a:ext cx="8915400" cy="64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XCEPTION for new GROUND-WATER appropri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362320"/>
            <a:ext cx="66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Water that is beneath the land surface or beneath the bed of a stream, lake, reservoir, or other body of surface water and that is 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not immediately or directly connected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to surface water”</a:t>
            </a:r>
            <a:r>
              <a:rPr b="1" i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CA §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5-2-329, 340, 3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“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not substantially or directly connected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to surface water”</a:t>
            </a:r>
            <a:r>
              <a:rPr b="1" i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CA §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5-2-33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“any ground water”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(DNRC or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1814400"/>
            <a:ext cx="8001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here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“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Ground Water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s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371680"/>
            <a:ext cx="182880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pper Missouri, T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pper Clark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usse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hell,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09680" y="3854520"/>
            <a:ext cx="5410440" cy="158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95288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165560" y="723960"/>
          <a:ext cx="421632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5560" y="723960"/>
                    <a:ext cx="4216320" cy="1747800"/>
                  </a:xfrm>
                  <a:prstGeom prst="rect">
                    <a:avLst/>
                  </a:prstGeom>
                  <a:ln w="25560">
                    <a:solidFill>
                      <a:srgbClr val="000066"/>
                    </a:solidFill>
                    <a:miter/>
                  </a:ln>
                  <a:effectLst>
                    <a:outerShdw dist="40186" dir="4303641" blurRad="0" rotWithShape="0">
                      <a:srgbClr val="ff99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165560" y="2705040"/>
          <a:ext cx="4216320" cy="18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5560" y="2705040"/>
                    <a:ext cx="4216320" cy="1817640"/>
                  </a:xfrm>
                  <a:prstGeom prst="rect">
                    <a:avLst/>
                  </a:prstGeom>
                  <a:ln w="25560">
                    <a:solidFill>
                      <a:srgbClr val="000066"/>
                    </a:solidFill>
                    <a:miter/>
                  </a:ln>
                  <a:effectLst>
                    <a:outerShdw dist="40186" dir="4303641" blurRad="0" rotWithShape="0">
                      <a:srgbClr val="ff99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165560" y="4762440"/>
          <a:ext cx="42163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5560" y="4762440"/>
                    <a:ext cx="4216320" cy="1714680"/>
                  </a:xfrm>
                  <a:prstGeom prst="rect">
                    <a:avLst/>
                  </a:prstGeom>
                  <a:ln w="25560">
                    <a:solidFill>
                      <a:srgbClr val="000066"/>
                    </a:solidFill>
                    <a:miter/>
                  </a:ln>
                  <a:effectLst>
                    <a:outerShdw dist="40186" dir="4303641" blurRad="0" rotWithShape="0">
                      <a:srgbClr val="ff990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e-pum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655308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lley et al, 1999, USGS Circular 1186, fig.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666880"/>
            <a:ext cx="38098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Water-right application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029200"/>
            <a:ext cx="38098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Water-right application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42670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E OF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962520" y="3657240"/>
            <a:ext cx="3352680" cy="762120"/>
          </a:xfrm>
          <a:prstGeom prst="line">
            <a:avLst/>
          </a:prstGeom>
          <a:ln w="3168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4495680"/>
            <a:ext cx="3276360" cy="1219320"/>
          </a:xfrm>
          <a:prstGeom prst="line">
            <a:avLst/>
          </a:prstGeom>
          <a:ln w="3168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76320" y="548640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DUCED SURFACE-WATER IN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152280" y="31240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TURED TRIBUTARY GROU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6720" y="76320"/>
            <a:ext cx="55465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Effects of ground-water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609480"/>
            <a:ext cx="55627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533520"/>
            <a:ext cx="556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6:49:30Z</dcterms:created>
  <dc:creator>ABEN</dc:creator>
  <dc:description/>
  <dc:language>en-US</dc:language>
  <cp:lastModifiedBy>Eloise Kendy</cp:lastModifiedBy>
  <cp:lastPrinted>2003-04-23T20:20:13Z</cp:lastPrinted>
  <dcterms:modified xsi:type="dcterms:W3CDTF">2005-02-24T23:04:47Z</dcterms:modified>
  <cp:revision>415</cp:revision>
  <dc:subject/>
  <dc:title>No Slide Title</dc:title>
</cp:coreProperties>
</file>