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wmf" ContentType="image/x-wmf"/>
  <Override PartName="/ppt/media/image10.jpeg" ContentType="image/jpeg"/>
  <Override PartName="/ppt/media/image8.wmf" ContentType="image/x-wmf"/>
  <Override PartName="/ppt/media/image11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.jpeg" ContentType="image/jpeg"/>
  <Override PartName="/ppt/media/image3.png" ContentType="image/png"/>
  <Override PartName="/ppt/media/image26.wmf" ContentType="image/x-wmf"/>
  <Override PartName="/ppt/media/image24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9.jpeg" ContentType="image/jpeg"/>
  <Override PartName="/ppt/media/image23.wmf" ContentType="image/x-wmf"/>
  <Override PartName="/ppt/media/image25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83E2-7D60-42B3-8C1C-A7F92293E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 tolerant taxa e.g. Hydropsyche are abundant throughout the river, and dominant in contaminated se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e taxa e.g. Epeorus are not present in contaminated sections of the ri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FC02-86D7-4754-81AB-F506870D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1F1E-D124-4272-9D6D-BE8C91D9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68B1-0DC5-4B4E-8FAC-921FE53E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4D0-8D47-4864-91E0-F9B10A13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657-1E49-4ADC-8E9B-229CB8E6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D32-F927-4286-AC52-8DD99C32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396C-B448-41F7-8DE6-D6E1D19C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D26D-77DA-40E5-A8B3-867F79AE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CBED-F1E9-433C-88E9-3A19C488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D25-51E6-424A-80A7-9F696EA8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B679-ED80-4BA8-A865-B0C95A92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1D31-523D-4BFD-BAAA-B5613A47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FDA7-F215-4158-9861-52CC5CA4D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ological and ecological approaches to assess metal-specific impacts on stream benth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in, DJ, Carter, JL, Buchwalter, DB, and Luoma, S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Geological Survey, Menlo Park, CA 940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5943600"/>
            <a:ext cx="167652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 IBI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increases over time in CF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80880" y="1828800"/>
          <a:ext cx="29149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29149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227640" y="1828800"/>
          <a:ext cx="2916360" cy="21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1828800"/>
                    <a:ext cx="291636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276720" y="4191120"/>
          <a:ext cx="2916000" cy="21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191120"/>
                    <a:ext cx="291600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380880" y="4191120"/>
          <a:ext cx="2970360" cy="222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4191120"/>
                    <a:ext cx="297036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173640" y="4191120"/>
          <a:ext cx="2970360" cy="222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3640" y="4191120"/>
                    <a:ext cx="297036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124080" y="1828800"/>
          <a:ext cx="2914920" cy="2185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4080" y="1828800"/>
                    <a:ext cx="29149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 IBI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s at CF and reference sites in 1995-9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80880" y="1828800"/>
          <a:ext cx="29149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29149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227640" y="1828800"/>
          <a:ext cx="2916360" cy="21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27640" y="1828800"/>
                    <a:ext cx="291636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276720" y="4191120"/>
          <a:ext cx="2916000" cy="21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191120"/>
                    <a:ext cx="291600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80880" y="4191120"/>
          <a:ext cx="2970360" cy="222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4191120"/>
                    <a:ext cx="297036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6173640" y="4191120"/>
          <a:ext cx="2970360" cy="222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73640" y="4191120"/>
                    <a:ext cx="297036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124080" y="1828800"/>
          <a:ext cx="2914920" cy="2185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4080" y="1828800"/>
                    <a:ext cx="29149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 flipV="1">
            <a:off x="4191120" y="3352680"/>
            <a:ext cx="457200" cy="76320"/>
          </a:xfrm>
          <a:prstGeom prst="line">
            <a:avLst/>
          </a:prstGeom>
          <a:ln w="507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371600" y="5333760"/>
            <a:ext cx="457200" cy="75960"/>
          </a:xfrm>
          <a:prstGeom prst="line">
            <a:avLst/>
          </a:prstGeom>
          <a:ln w="507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238880" y="3352680"/>
            <a:ext cx="457200" cy="76320"/>
          </a:xfrm>
          <a:prstGeom prst="line">
            <a:avLst/>
          </a:prstGeom>
          <a:ln w="507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343400" y="5333760"/>
            <a:ext cx="457200" cy="75960"/>
          </a:xfrm>
          <a:prstGeom prst="line">
            <a:avLst/>
          </a:prstGeom>
          <a:ln w="507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Cu highly correlated with discharge in C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09480" y="2209680"/>
          <a:ext cx="447048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447048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5594400" y="1600200"/>
          <a:ext cx="2146320" cy="21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94400" y="1600200"/>
                    <a:ext cx="21463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952880" y="2286000"/>
          <a:ext cx="3573720" cy="268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2286000"/>
                    <a:ext cx="357372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ot in the tribut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715000" y="17524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catastrophic disturbance from high discharge likely had a negative impact on the benthos during 1995-97, and this  confounded metals impacts in 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 IBI is not specific to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609480" y="1768320"/>
          <a:ext cx="4753080" cy="39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68320"/>
                    <a:ext cx="475308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physiologic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mechanisms affecting metal bioaccum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 species-specific differences in metal tole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field observations consistent with understanding of mechanis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304920" y="304920"/>
            <a:ext cx="8458200" cy="6343560"/>
            <a:chOff x="304920" y="304920"/>
            <a:chExt cx="8458200" cy="6343560"/>
          </a:xfrm>
        </p:grpSpPr>
        <p:graphicFrame>
          <p:nvGraphicFramePr>
            <p:cNvPr id="267" name=""/>
            <p:cNvGraphicFramePr/>
            <p:nvPr/>
          </p:nvGraphicFramePr>
          <p:xfrm>
            <a:off x="304920" y="304920"/>
            <a:ext cx="8458200" cy="634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304920"/>
                      <a:ext cx="8458200" cy="634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69" name=""/>
            <p:cNvGrpSpPr/>
            <p:nvPr/>
          </p:nvGrpSpPr>
          <p:grpSpPr>
            <a:xfrm>
              <a:off x="5105520" y="1085760"/>
              <a:ext cx="3200400" cy="2971800"/>
              <a:chOff x="5105520" y="1085760"/>
              <a:chExt cx="3200400" cy="2971800"/>
            </a:xfrm>
          </p:grpSpPr>
          <p:pic>
            <p:nvPicPr>
              <p:cNvPr id="27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05520" y="1085760"/>
                <a:ext cx="3200400" cy="297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5232960" y="1800360"/>
                <a:ext cx="211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cc"/>
                    </a:solidFill>
                    <a:latin typeface="Comic Sans MS"/>
                  </a:rPr>
                  <a:t>Hydropsych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5257800" y="116208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cc"/>
                  </a:solidFill>
                  <a:latin typeface="Comic Sans MS"/>
                </a:rPr>
                <a:t>Tolera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380880" y="371520"/>
            <a:ext cx="8267760" cy="6200640"/>
            <a:chOff x="380880" y="371520"/>
            <a:chExt cx="8267760" cy="6200640"/>
          </a:xfrm>
        </p:grpSpPr>
        <p:graphicFrame>
          <p:nvGraphicFramePr>
            <p:cNvPr id="274" name=""/>
            <p:cNvGraphicFramePr/>
            <p:nvPr/>
          </p:nvGraphicFramePr>
          <p:xfrm>
            <a:off x="380880" y="371520"/>
            <a:ext cx="8267760" cy="6200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371520"/>
                      <a:ext cx="8267760" cy="62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76" name=""/>
            <p:cNvGrpSpPr/>
            <p:nvPr/>
          </p:nvGrpSpPr>
          <p:grpSpPr>
            <a:xfrm>
              <a:off x="4495680" y="1371600"/>
              <a:ext cx="3662280" cy="2528640"/>
              <a:chOff x="4495680" y="1371600"/>
              <a:chExt cx="3662280" cy="2528640"/>
            </a:xfrm>
          </p:grpSpPr>
          <p:pic>
            <p:nvPicPr>
              <p:cNvPr id="27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95680" y="1371600"/>
                <a:ext cx="3662280" cy="25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"/>
              <p:cNvSpPr/>
              <p:nvPr/>
            </p:nvSpPr>
            <p:spPr>
              <a:xfrm>
                <a:off x="4728960" y="1600200"/>
                <a:ext cx="1634400" cy="92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Comic Sans MS"/>
                  </a:rPr>
                  <a:t>Epeoru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buClr>
                    <a:srgbClr val="0000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Scrap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4572000" y="8380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Comic Sans MS"/>
                </a:rPr>
                <a:t>Sensiti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ulnerability to metal is rela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ed body concen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 dose associated with sites vulnerable to metal toxicity (metabolically active e.g. enzy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74920" y="3252960"/>
            <a:ext cx="836640" cy="850680"/>
          </a:xfrm>
          <a:prstGeom prst="rect">
            <a:avLst/>
          </a:prstGeom>
          <a:noFill/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374920" y="4527720"/>
            <a:ext cx="139680" cy="852480"/>
          </a:xfrm>
          <a:prstGeom prst="rect">
            <a:avLst/>
          </a:prstGeom>
          <a:noFill/>
          <a:ln w="11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11560" y="3252960"/>
            <a:ext cx="2436840" cy="850680"/>
          </a:xfrm>
          <a:prstGeom prst="rect">
            <a:avLst/>
          </a:prstGeom>
          <a:noFill/>
          <a:ln w="11160">
            <a:solidFill>
              <a:srgbClr val="19f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14600" y="4527720"/>
            <a:ext cx="279360" cy="852480"/>
          </a:xfrm>
          <a:prstGeom prst="rect">
            <a:avLst/>
          </a:prstGeom>
          <a:noFill/>
          <a:ln w="11160">
            <a:solidFill>
              <a:srgbClr val="19f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498680" y="4095720"/>
            <a:ext cx="779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93840" y="5486400"/>
            <a:ext cx="1049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dis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071880" y="5595480"/>
            <a:ext cx="1440" cy="63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768840" y="5595480"/>
            <a:ext cx="0" cy="63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464000" y="5595480"/>
            <a:ext cx="1800" cy="63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5162400" y="5595480"/>
            <a:ext cx="0" cy="63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857920" y="5595480"/>
            <a:ext cx="1440" cy="63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18760" y="574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15720" y="574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10880" y="574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07840" y="574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06600" y="574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01760" y="574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496920" y="5746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9880" y="6172200"/>
            <a:ext cx="1459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 in µmol/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374920" y="3252960"/>
            <a:ext cx="836640" cy="850680"/>
          </a:xfrm>
          <a:prstGeom prst="rect">
            <a:avLst/>
          </a:prstGeom>
          <a:solidFill>
            <a:srgbClr val="f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74920" y="4527720"/>
            <a:ext cx="139680" cy="852480"/>
          </a:xfrm>
          <a:prstGeom prst="rect">
            <a:avLst/>
          </a:prstGeom>
          <a:solidFill>
            <a:srgbClr val="f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11560" y="3252960"/>
            <a:ext cx="2436840" cy="850680"/>
          </a:xfrm>
          <a:prstGeom prst="rect">
            <a:avLst/>
          </a:prstGeom>
          <a:solidFill>
            <a:srgbClr val="8c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4527720"/>
            <a:ext cx="279360" cy="852480"/>
          </a:xfrm>
          <a:prstGeom prst="rect">
            <a:avLst/>
          </a:prstGeom>
          <a:solidFill>
            <a:srgbClr val="8cff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374560" y="5659560"/>
            <a:ext cx="419724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374920" y="2971800"/>
            <a:ext cx="1440" cy="2687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374920" y="2971800"/>
            <a:ext cx="41781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98880" y="4878360"/>
            <a:ext cx="173160" cy="123840"/>
          </a:xfrm>
          <a:prstGeom prst="rect">
            <a:avLst/>
          </a:prstGeom>
          <a:solidFill>
            <a:srgbClr val="ff7f7f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76800" y="4818240"/>
            <a:ext cx="1725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l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898880" y="5119560"/>
            <a:ext cx="173160" cy="122400"/>
          </a:xfrm>
          <a:prstGeom prst="rect">
            <a:avLst/>
          </a:prstGeom>
          <a:solidFill>
            <a:srgbClr val="8cff8c"/>
          </a:solidFill>
          <a:ln w="6480">
            <a:solidFill>
              <a:srgbClr val="19ff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75720" y="5059440"/>
            <a:ext cx="2093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oxified /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219320" y="3252960"/>
            <a:ext cx="1116000" cy="8413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295280" y="4518000"/>
            <a:ext cx="104004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 accumulation at intracellular sites vulnerable to toxi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verage for sites in the C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457200" y="2057400"/>
          <a:ext cx="5486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57400"/>
                    <a:ext cx="5486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6095880" y="2057400"/>
            <a:ext cx="274320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accumulation patterns sugges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peorus and Serratel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more vulnerable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dropsyche, Arctopsy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et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community-level responses to metals requires information from a variety of 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assessment data indicate improving ecological conditions in the upper 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ponse generally corresponds to lower Cu expos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isolating the influences of Cu and discharge is problemati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tals IBI appears to be sensitive to both Cu exposure and dis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es-specific Cu bioaccumulation patterns are consistent with observed distribution patter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ence of species that bioaccumulate high concentrations of Cu at intracellular sites vulnerable to toxicity is indicative of where metals effects were most likely occur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3049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s of ecosystem respon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638680" y="152280"/>
            <a:ext cx="2971800" cy="3505320"/>
            <a:chOff x="5638680" y="152280"/>
            <a:chExt cx="2971800" cy="35053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5791320" y="223920"/>
              <a:ext cx="2685960" cy="33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248520" y="24415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81680" y="21402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43600" y="29271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172200" y="26560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62920" y="19256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20120" y="25844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15200" y="22118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48520" y="33296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62920" y="25128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34320" y="33296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7280" y="322812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391520" y="29419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72400" y="23266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24480" y="215532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86600" y="32133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43800" y="20401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62920" y="28274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91520" y="31849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05720" y="32565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53080" y="22269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Comic Sans MS"/>
                </a:rPr>
                <a:t>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95880" y="2941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Comic Sans MS"/>
                </a:rPr>
                <a:t>Sedi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19920" y="12967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Environmental indicator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19960" y="3384720"/>
              <a:ext cx="1190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Photo: Ed Mo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38680" y="152280"/>
              <a:ext cx="2971800" cy="3505320"/>
            </a:xfrm>
            <a:prstGeom prst="rect">
              <a:avLst/>
            </a:prstGeom>
            <a:noFill/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24480" y="25844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Bio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19960" y="3384720"/>
              <a:ext cx="1190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Photo: Ed Mo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867280" y="5867280"/>
            <a:ext cx="533520" cy="3654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705720" y="5638680"/>
            <a:ext cx="1600200" cy="806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867280" y="5105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oaccu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67280" y="6415200"/>
            <a:ext cx="119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mic Sans MS"/>
              </a:rPr>
              <a:t>Photo: Ed Mo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3886200"/>
            <a:ext cx="2895840" cy="274320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6515280" y="415296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143000" y="990720"/>
            <a:ext cx="4724280" cy="2286000"/>
            <a:chOff x="1143000" y="990720"/>
            <a:chExt cx="4724280" cy="2286000"/>
          </a:xfrm>
        </p:grpSpPr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1295280" y="1128600"/>
              <a:ext cx="304812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295280" y="1523880"/>
              <a:ext cx="22860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99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ff66"/>
                  </a:solidFill>
                  <a:latin typeface="Comic Sans MS"/>
                </a:rPr>
                <a:t>Floodpla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99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ff66"/>
                  </a:solidFill>
                  <a:latin typeface="Comic Sans MS"/>
                </a:rPr>
                <a:t>Stream ban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99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ff66"/>
                  </a:solidFill>
                  <a:latin typeface="Comic Sans MS"/>
                </a:rPr>
                <a:t>Tailing Depos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95280" y="1143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Sourc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95280" y="2909880"/>
              <a:ext cx="121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Photo: John Lamb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43000" y="990720"/>
              <a:ext cx="3352680" cy="2286000"/>
            </a:xfrm>
            <a:prstGeom prst="rect">
              <a:avLst/>
            </a:prstGeom>
            <a:noFill/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91120" y="1905120"/>
              <a:ext cx="1676160" cy="457200"/>
            </a:xfrm>
            <a:custGeom>
              <a:avLst/>
              <a:gdLst>
                <a:gd name="textAreaLeft" fmla="*/ 261720 w 1676160"/>
                <a:gd name="textAreaRight" fmla="*/ 1466640 w 167616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99ff99"/>
                </a:gs>
                <a:gs pos="100000">
                  <a:srgbClr val="4675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86728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3886200"/>
            <a:ext cx="2895480" cy="274320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4114440" y="5105520"/>
            <a:ext cx="1562040" cy="457200"/>
          </a:xfrm>
          <a:custGeom>
            <a:avLst/>
            <a:gdLst>
              <a:gd name="textAreaLeft" fmla="*/ 244080 w 1562040"/>
              <a:gd name="textAreaRight" fmla="*/ 1366920 w 1562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676520" y="5867280"/>
            <a:ext cx="533160" cy="365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2514600" y="5562720"/>
            <a:ext cx="1600200" cy="806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00200" y="4191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xicological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2514600" y="4648320"/>
            <a:ext cx="52848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3049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s of ecosystem respon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638680" y="152280"/>
            <a:ext cx="2971800" cy="3505320"/>
            <a:chOff x="5638680" y="152280"/>
            <a:chExt cx="2971800" cy="350532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791320" y="223920"/>
              <a:ext cx="2685960" cy="33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248520" y="24415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81680" y="21402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43600" y="29271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26560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19256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0120" y="25844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15200" y="22118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48520" y="33296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62920" y="25128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34320" y="33296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7280" y="322812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91520" y="29419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72400" y="232668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24480" y="215532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86600" y="32133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43800" y="20401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2920" y="282744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91520" y="31849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05720" y="32565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ff66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53080" y="22269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Comic Sans MS"/>
                </a:rPr>
                <a:t>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5880" y="2941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Comic Sans MS"/>
                </a:rPr>
                <a:t>Sedi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9920" y="1296720"/>
              <a:ext cx="228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Environmental indicator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19960" y="3384720"/>
              <a:ext cx="1190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Photo: Ed Mo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38680" y="152280"/>
              <a:ext cx="2971800" cy="3505320"/>
            </a:xfrm>
            <a:prstGeom prst="rect">
              <a:avLst/>
            </a:prstGeom>
            <a:noFill/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25844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Bio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19960" y="3384720"/>
              <a:ext cx="1190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Photo: Ed Mo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867280" y="5867280"/>
            <a:ext cx="533520" cy="365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705720" y="5638680"/>
            <a:ext cx="1600200" cy="806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867280" y="5105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oaccu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7280" y="6415200"/>
            <a:ext cx="119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mic Sans MS"/>
              </a:rPr>
              <a:t>Photo: Ed Mo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3886200"/>
            <a:ext cx="2895840" cy="274320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6515280" y="415296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43000" y="990720"/>
            <a:ext cx="4724280" cy="2286000"/>
            <a:chOff x="1143000" y="990720"/>
            <a:chExt cx="4724280" cy="2286000"/>
          </a:xfrm>
        </p:grpSpPr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1295280" y="1128600"/>
              <a:ext cx="304812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295280" y="1523880"/>
              <a:ext cx="22860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99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ff66"/>
                  </a:solidFill>
                  <a:latin typeface="Comic Sans MS"/>
                </a:rPr>
                <a:t>Floodpla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99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ff66"/>
                  </a:solidFill>
                  <a:latin typeface="Comic Sans MS"/>
                </a:rPr>
                <a:t>Stream ban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99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ff66"/>
                  </a:solidFill>
                  <a:latin typeface="Comic Sans MS"/>
                </a:rPr>
                <a:t>Tailing Deposi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95280" y="1143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Sourc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2909880"/>
              <a:ext cx="1219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omic Sans MS"/>
                </a:rPr>
                <a:t>Photo: John Lamb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3000" y="990720"/>
              <a:ext cx="3352680" cy="2286000"/>
            </a:xfrm>
            <a:prstGeom prst="rect">
              <a:avLst/>
            </a:prstGeom>
            <a:noFill/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91120" y="1905120"/>
              <a:ext cx="1676160" cy="457200"/>
            </a:xfrm>
            <a:custGeom>
              <a:avLst/>
              <a:gdLst>
                <a:gd name="textAreaLeft" fmla="*/ 261720 w 1676160"/>
                <a:gd name="textAreaRight" fmla="*/ 1466640 w 167616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99ff99"/>
                </a:gs>
                <a:gs pos="100000">
                  <a:srgbClr val="4675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86728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886200"/>
            <a:ext cx="2895480" cy="2743200"/>
          </a:xfrm>
          <a:prstGeom prst="rect">
            <a:avLst/>
          </a:prstGeom>
          <a:noFill/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4114440" y="5105520"/>
            <a:ext cx="1562040" cy="457200"/>
          </a:xfrm>
          <a:custGeom>
            <a:avLst/>
            <a:gdLst>
              <a:gd name="textAreaLeft" fmla="*/ 244080 w 1562040"/>
              <a:gd name="textAreaRight" fmla="*/ 1366920 w 1562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676520" y="5867280"/>
            <a:ext cx="533160" cy="365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2514600" y="5562720"/>
            <a:ext cx="1600200" cy="8064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00200" y="4191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xicological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4876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16765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388620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63868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29718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838080" y="2743200"/>
            <a:ext cx="2971800" cy="3278880"/>
            <a:chOff x="838080" y="2743200"/>
            <a:chExt cx="2971800" cy="3278880"/>
          </a:xfrm>
        </p:grpSpPr>
        <p:sp>
          <p:nvSpPr>
            <p:cNvPr id="155" name=""/>
            <p:cNvSpPr/>
            <p:nvPr/>
          </p:nvSpPr>
          <p:spPr>
            <a:xfrm>
              <a:off x="838080" y="556236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ference cond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990720" y="3809880"/>
              <a:ext cx="1218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2209680" y="4406760"/>
              <a:ext cx="121932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1752480" y="2743200"/>
              <a:ext cx="1524240" cy="1065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 understanding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 eliminate some species from assembl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3124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63868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5715000" y="3809880"/>
            <a:ext cx="1219320" cy="935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6934320" y="4419720"/>
            <a:ext cx="123336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63868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29718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5562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1218960" cy="935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209680" y="4406760"/>
            <a:ext cx="1219320" cy="1028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752480" y="2743200"/>
            <a:ext cx="1524240" cy="1065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 understanding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sence of other species may be caused by other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9880" y="3124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63868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5791320" y="3809880"/>
            <a:ext cx="1218960" cy="935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809880" y="4267080"/>
            <a:ext cx="1600200" cy="1219320"/>
          </a:xfrm>
          <a:prstGeom prst="rightArrow">
            <a:avLst>
              <a:gd name="adj1" fmla="val 50000"/>
              <a:gd name="adj2" fmla="val 3280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35720" y="4572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r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63868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29718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5562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1218960" cy="9352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209680" y="4406760"/>
            <a:ext cx="1219320" cy="1028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1752480" y="2743200"/>
            <a:ext cx="1524240" cy="1065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tic understanding of species-specific vulnerability to metals can reduce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3124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63868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5791320" y="3809880"/>
            <a:ext cx="1218960" cy="935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809880" y="4267080"/>
            <a:ext cx="1600200" cy="1219320"/>
          </a:xfrm>
          <a:prstGeom prst="rightArrow">
            <a:avLst>
              <a:gd name="adj1" fmla="val 50000"/>
              <a:gd name="adj2" fmla="val 3280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35720" y="4572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r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63868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2971800"/>
            <a:ext cx="1524240" cy="685800"/>
          </a:xfrm>
          <a:prstGeom prst="rightArrow">
            <a:avLst>
              <a:gd name="adj1" fmla="val 50000"/>
              <a:gd name="adj2" fmla="val 55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5562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1218960" cy="935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2209680" y="4406760"/>
            <a:ext cx="1219320" cy="10288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752480" y="2743200"/>
            <a:ext cx="1524240" cy="10652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tic understanding of species-specific vulnerability to metals can reduce ambig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31240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5867280" y="3809880"/>
            <a:ext cx="1219320" cy="935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638680" y="2666880"/>
            <a:ext cx="2590920" cy="2819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5791320" y="3809880"/>
            <a:ext cx="1218960" cy="935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809880" y="4267080"/>
            <a:ext cx="1600200" cy="1219320"/>
          </a:xfrm>
          <a:prstGeom prst="rightArrow">
            <a:avLst>
              <a:gd name="adj1" fmla="val 50000"/>
              <a:gd name="adj2" fmla="val 3280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35720" y="4572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ra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3123720" y="2057400"/>
            <a:ext cx="838440" cy="1143000"/>
          </a:xfrm>
          <a:custGeom>
            <a:avLst/>
            <a:gdLst>
              <a:gd name="textAreaLeft" fmla="*/ 112320 w 838440"/>
              <a:gd name="textAreaRight" fmla="*/ 726120 w 838440"/>
              <a:gd name="textAreaTop" fmla="*/ 233280 h 1143000"/>
              <a:gd name="textAreaBottom" fmla="*/ 909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820" stAng="-5400000" swAng="-5400000"/>
                <a:lnTo>
                  <a:pt x="0" y="12780"/>
                </a:lnTo>
                <a:arcTo wR="21600" hR="8820" stAng="10800000" swAng="-3046054"/>
                <a:lnTo>
                  <a:pt x="14768" y="21147"/>
                </a:lnTo>
                <a:lnTo>
                  <a:pt x="21600" y="19620"/>
                </a:lnTo>
                <a:lnTo>
                  <a:pt x="14768" y="17187"/>
                </a:lnTo>
                <a:lnTo>
                  <a:pt x="14768" y="17187"/>
                </a:lnTo>
                <a:arcTo wR="21600" hR="8820" stAng="7753946" swAng="2723622"/>
                <a:lnTo>
                  <a:pt x="551" y="10800"/>
                </a:lnTo>
                <a:arcTo wR="21600" hR="8820" stAng="-10477568" swAng="5077568"/>
                <a:close/>
              </a:path>
              <a:path fill="darkenLess" w="21600" h="21600">
                <a:moveTo>
                  <a:pt x="21600" y="0"/>
                </a:moveTo>
                <a:arcTo wR="21600" hR="8820" stAng="-5400000" swAng="-5400000"/>
                <a:lnTo>
                  <a:pt x="0" y="8820"/>
                </a:lnTo>
                <a:arcTo wR="21600" hR="8820" stAng="10800000" swAng="-322432"/>
                <a:lnTo>
                  <a:pt x="551" y="10800"/>
                </a:lnTo>
                <a:arcTo wR="21600" hR="8820" stAng="-10477568" swAng="5077568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1981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y vuln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590920" y="388620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400 h 852480"/>
              <a:gd name="textAreaBottom" fmla="*/ 73080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4038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of metal effect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and source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assessment (St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surveys of benthic macroinverteb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 exposures (USGS/USEP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invertebrate species (aquatic ins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physiology of metal bioaccumulation (USGS, N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 species-specific vulnerability based on metal bioaccumulation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 of macroinvertebrates and relation to metal exp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267080" y="1752120"/>
            <a:ext cx="4267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st levels of 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where greatest impacts have occurred in the past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where remediation is focu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d by a metals-specific IBI composed of  three metrics (i.e. tolerance index, EPT, density) (McGuire 19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09480" y="1676520"/>
          <a:ext cx="35942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35942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9T17:15:52Z</dcterms:created>
  <dc:creator>djcain</dc:creator>
  <dc:description/>
  <dc:language>en-US</dc:language>
  <cp:lastModifiedBy>djcain</cp:lastModifiedBy>
  <dcterms:modified xsi:type="dcterms:W3CDTF">2005-03-30T22:55:30Z</dcterms:modified>
  <cp:revision>140</cp:revision>
  <dc:subject/>
  <dc:title>Slide 1</dc:title>
</cp:coreProperties>
</file>