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.png" ContentType="image/png"/>
  <Override PartName="/ppt/media/image26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9.jpeg" ContentType="image/jpeg"/>
  <Override PartName="/ppt/media/image23.wmf" ContentType="image/x-wmf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95D-F1EC-4D79-B2FF-38ACC880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 tolerant taxa e.g. Hydropsyche are abundant throughout the river, and dominant in contaminated s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 taxa e.g. Epeorus are not present in contaminated sections of the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F43-F07C-4516-8445-3140B15C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C3A-5B6F-4210-BEC0-EA6726F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9F-49C3-48A6-A420-44099F4C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0A1-CA72-4733-B49B-D291965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164-BE76-4625-B89F-833DAA9B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592-AC6C-422B-98EC-081A3E2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D74-5797-44CA-A91F-D6417ED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F8B-0EA1-4177-AC62-00DAD14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169-BE5B-4796-B12E-B42AC0C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EC4-3237-42FC-99DA-BB11086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3D5-BE2F-4E5C-BBC8-058851D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5D1-13A4-4104-A99A-49EF056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CD02-8AB6-4AD2-8935-0946813F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and ecological approaches to assess metal-specific impacts on stream bent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n, DJ, Carter, JL, Buchwalter, DB, and Luoma,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Geological Survey, Menlo Park, CA 94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943600"/>
            <a:ext cx="1676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increases over time in C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at CF and reference sites in 1995-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 flipV="1">
            <a:off x="419112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3716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434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Cu highly correlated with discharge in C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9480" y="2209680"/>
          <a:ext cx="44704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44704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594400" y="1600200"/>
          <a:ext cx="21463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600200"/>
                    <a:ext cx="21463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952880" y="2286000"/>
          <a:ext cx="3573720" cy="26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286000"/>
                    <a:ext cx="3573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in the tribu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500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atastrophic disturbance from high discharge likely had a negative impact on the benthos during 1995-97, and this  confounded metals impacts in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IBI is not specific to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09480" y="1768320"/>
          <a:ext cx="475308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68320"/>
                    <a:ext cx="4753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physiolog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mechanisms affecting metal bioaccu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pecies-specific differences in metal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ield observations consistent with understanding of mechani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04920" y="304920"/>
            <a:ext cx="8458200" cy="6343560"/>
            <a:chOff x="304920" y="304920"/>
            <a:chExt cx="8458200" cy="6343560"/>
          </a:xfrm>
        </p:grpSpPr>
        <p:graphicFrame>
          <p:nvGraphicFramePr>
            <p:cNvPr id="267" name=""/>
            <p:cNvGraphicFramePr/>
            <p:nvPr/>
          </p:nvGraphicFramePr>
          <p:xfrm>
            <a:off x="304920" y="304920"/>
            <a:ext cx="8458200" cy="634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04920"/>
                      <a:ext cx="8458200" cy="634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9" name=""/>
            <p:cNvGrpSpPr/>
            <p:nvPr/>
          </p:nvGrpSpPr>
          <p:grpSpPr>
            <a:xfrm>
              <a:off x="5105520" y="1085760"/>
              <a:ext cx="3200400" cy="2971800"/>
              <a:chOff x="5105520" y="1085760"/>
              <a:chExt cx="3200400" cy="29718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5520" y="1085760"/>
                <a:ext cx="3200400" cy="297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232960" y="1800360"/>
                <a:ext cx="21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Comic Sans MS"/>
                  </a:rPr>
                  <a:t>Hydropsyc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257800" y="11620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Toler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71520"/>
            <a:ext cx="8267760" cy="6200640"/>
            <a:chOff x="380880" y="371520"/>
            <a:chExt cx="8267760" cy="6200640"/>
          </a:xfrm>
        </p:grpSpPr>
        <p:graphicFrame>
          <p:nvGraphicFramePr>
            <p:cNvPr id="274" name=""/>
            <p:cNvGraphicFramePr/>
            <p:nvPr/>
          </p:nvGraphicFramePr>
          <p:xfrm>
            <a:off x="380880" y="371520"/>
            <a:ext cx="8267760" cy="620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71520"/>
                      <a:ext cx="8267760" cy="62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6" name=""/>
            <p:cNvGrpSpPr/>
            <p:nvPr/>
          </p:nvGrpSpPr>
          <p:grpSpPr>
            <a:xfrm>
              <a:off x="4495680" y="1371600"/>
              <a:ext cx="3662280" cy="2528640"/>
              <a:chOff x="4495680" y="1371600"/>
              <a:chExt cx="3662280" cy="25286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1371600"/>
                <a:ext cx="3662280" cy="25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728960" y="1600200"/>
                <a:ext cx="16344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peor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crap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572000" y="838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Sen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nerability to metal is rela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body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dose associated with sites vulnerable to metal toxicity (metabolically active e.g. enzy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98680" y="409572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3840" y="5486400"/>
            <a:ext cx="104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dis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7188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6884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64000" y="5595480"/>
            <a:ext cx="180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6240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5792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18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157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1088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0784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660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01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969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172200"/>
            <a:ext cx="145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 in µmol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374560" y="5659560"/>
            <a:ext cx="4197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74920" y="2971800"/>
            <a:ext cx="1440" cy="268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74920" y="2971800"/>
            <a:ext cx="4178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98880" y="4878360"/>
            <a:ext cx="173160" cy="123840"/>
          </a:xfrm>
          <a:prstGeom prst="rect">
            <a:avLst/>
          </a:prstGeom>
          <a:solidFill>
            <a:srgbClr val="ff7f7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818240"/>
            <a:ext cx="172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98880" y="5119560"/>
            <a:ext cx="173160" cy="122400"/>
          </a:xfrm>
          <a:prstGeom prst="rect">
            <a:avLst/>
          </a:prstGeom>
          <a:solidFill>
            <a:srgbClr val="8cff8c"/>
          </a:solidFill>
          <a:ln w="648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75720" y="5059440"/>
            <a:ext cx="209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oxified /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3252960"/>
            <a:ext cx="1116000" cy="841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295280" y="4518000"/>
            <a:ext cx="10400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accumulation at intracellular sites vulnerable to toxi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rage for sites in the 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5880" y="2057400"/>
            <a:ext cx="27432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ccumulation patterns sugge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peorus and Serrat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vulnerabl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dropsyche, Arctopsy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e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community-level responses to metals requires information from a variety of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ssessment data indicate improving ecological conditions in the upper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e generally corresponds to lower Cu expo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solating the influences of Cu and discharge is problemati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s IBI appears to be sensitive to both Cu exposure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-specific Cu bioaccumulation patterns are consistent with observed distribution patter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of species that bioaccumulate high concentrations of Cu at intracellular sites vulnerable to toxicity is indicative of where metals effects were most likely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514600" y="4648320"/>
            <a:ext cx="5284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876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886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743200"/>
            <a:ext cx="2971800" cy="3278880"/>
            <a:chOff x="838080" y="2743200"/>
            <a:chExt cx="2971800" cy="3278880"/>
          </a:xfrm>
        </p:grpSpPr>
        <p:sp>
          <p:nvSpPr>
            <p:cNvPr id="155" name=""/>
            <p:cNvSpPr/>
            <p:nvPr/>
          </p:nvSpPr>
          <p:spPr>
            <a:xfrm>
              <a:off x="838080" y="55623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ference 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990720" y="3809880"/>
              <a:ext cx="1218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209680" y="4406760"/>
              <a:ext cx="121932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752480" y="2743200"/>
              <a:ext cx="1524240" cy="106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eliminate some species from assemb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715000" y="3809880"/>
            <a:ext cx="1219320" cy="9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2333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sence of other species may be caused by other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123720" y="205740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233280 h 1143000"/>
              <a:gd name="textAreaBottom" fmla="*/ 909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20" stAng="-5400000" swAng="-5400000"/>
                <a:lnTo>
                  <a:pt x="0" y="12780"/>
                </a:lnTo>
                <a:arcTo wR="21600" hR="8820" stAng="10800000" swAng="-3046054"/>
                <a:lnTo>
                  <a:pt x="14768" y="21147"/>
                </a:lnTo>
                <a:lnTo>
                  <a:pt x="21600" y="19620"/>
                </a:lnTo>
                <a:lnTo>
                  <a:pt x="14768" y="17187"/>
                </a:lnTo>
                <a:lnTo>
                  <a:pt x="14768" y="17187"/>
                </a:lnTo>
                <a:arcTo wR="21600" hR="8820" stAng="7753946" swAng="2723622"/>
                <a:lnTo>
                  <a:pt x="551" y="10800"/>
                </a:lnTo>
                <a:arcTo wR="21600" hR="8820" stAng="-10477568" swAng="5077568"/>
                <a:close/>
              </a:path>
              <a:path fill="darkenLess" w="21600" h="21600">
                <a:moveTo>
                  <a:pt x="21600" y="0"/>
                </a:moveTo>
                <a:arcTo wR="21600" hR="8820" stAng="-5400000" swAng="-5400000"/>
                <a:lnTo>
                  <a:pt x="0" y="8820"/>
                </a:lnTo>
                <a:arcTo wR="21600" hR="8820" stAng="10800000" swAng="-322432"/>
                <a:lnTo>
                  <a:pt x="551" y="10800"/>
                </a:lnTo>
                <a:arcTo wR="21600" hR="8820" stAng="-10477568" swAng="50775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90920" y="38862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40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metal 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and sourc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ssessment (S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rveys of benthic macroinverteb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 exposures (USGS/USE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invertebrate species (aquatic ins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physiology of metal bioaccumulation (USGS, N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 species-specific vulnerability based on metal bioaccumul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of macroinvertebrates and relation to metal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s of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greatest impacts have occurred in the past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remediation is foc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by a metals-specific IBI composed of  three metrics (i.e. tolerance index, EPT, density) (McGuire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676520"/>
          <a:ext cx="35942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35942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7:15:52Z</dcterms:created>
  <dc:creator>djcain</dc:creator>
  <dc:description/>
  <dc:language>en-US</dc:language>
  <cp:lastModifiedBy>djcain</cp:lastModifiedBy>
  <dcterms:modified xsi:type="dcterms:W3CDTF">2005-03-30T22:55:30Z</dcterms:modified>
  <cp:revision>140</cp:revision>
  <dc:subject/>
  <dc:title>Slide 1</dc:title>
</cp:coreProperties>
</file>