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10.jpeg" ContentType="image/jpeg"/>
  <Override PartName="/ppt/media/image8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3.png" ContentType="image/png"/>
  <Override PartName="/ppt/media/image26.wmf" ContentType="image/x-wmf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9.jpeg" ContentType="image/jpeg"/>
  <Override PartName="/ppt/media/image23.wmf" ContentType="image/x-wmf"/>
  <Override PartName="/ppt/media/image2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925E-6FBE-4526-A257-666EEEECF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 tolerant taxa e.g. Hydropsyche are abundant throughout the river, and dominant in contaminated s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e taxa e.g. Epeorus are not present in contaminated sections of the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C6E-598C-4A65-A859-049BD505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B37-D227-4F60-A980-EC007009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8E1-BB35-4575-B71D-A4F2CB4B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294-2601-4637-B89A-EBE52BB9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A2F-28F2-4679-AD94-39B00E18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3FC-76E1-4FAA-9CAF-5A815909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44E-EE8C-4B73-BF45-8428471E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C32-7A85-42B4-9EA1-60D7959C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10A-8CC3-4B07-BDF5-D9324A64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0E7-BADE-43CA-84EF-B8FC3D8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708-A301-42F7-8487-F374B56A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783-2E42-4B0E-A2D1-62A495E7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819-B4E7-4A05-A684-0AA508BF7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ological and ecological approaches to assess metal-specific impacts on stream bent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n, DJ, Carter, JL, Buchwalter, DB, and Luoma, 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Geological Survey, Menlo Park, CA 940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943600"/>
            <a:ext cx="167652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IBI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increases over time in CF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1828800"/>
          <a:ext cx="29149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227640" y="1828800"/>
          <a:ext cx="29163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1828800"/>
                    <a:ext cx="2916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276720" y="4191120"/>
          <a:ext cx="291600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91120"/>
                    <a:ext cx="291600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80880" y="4191120"/>
          <a:ext cx="2970360" cy="222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173640" y="4191120"/>
          <a:ext cx="2970360" cy="22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364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124080" y="1828800"/>
          <a:ext cx="2914920" cy="218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IBI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at CF and reference sites in 1995-9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828800"/>
          <a:ext cx="29149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227640" y="1828800"/>
          <a:ext cx="29163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1828800"/>
                    <a:ext cx="2916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276720" y="4191120"/>
          <a:ext cx="291600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91120"/>
                    <a:ext cx="291600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80880" y="4191120"/>
          <a:ext cx="2970360" cy="222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6173640" y="4191120"/>
          <a:ext cx="2970360" cy="22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364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124080" y="1828800"/>
          <a:ext cx="2914920" cy="218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 flipV="1">
            <a:off x="4191120" y="3352680"/>
            <a:ext cx="457200" cy="7632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371600" y="5333760"/>
            <a:ext cx="457200" cy="7596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238880" y="3352680"/>
            <a:ext cx="457200" cy="7632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343400" y="5333760"/>
            <a:ext cx="457200" cy="7596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Cu highly correlated with discharge in C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9480" y="2209680"/>
          <a:ext cx="44704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44704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594400" y="1600200"/>
          <a:ext cx="214632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4400" y="1600200"/>
                    <a:ext cx="21463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952880" y="2286000"/>
          <a:ext cx="3573720" cy="26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286000"/>
                    <a:ext cx="357372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in the tribu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5000" y="17524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atastrophic disturbance from high discharge likely had a negative impact on the benthos during 1995-97, and this  confounded metals impacts in 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IBI is not specific to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09480" y="1768320"/>
          <a:ext cx="475308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68320"/>
                    <a:ext cx="4753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physiologic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mechanisms affecting metal bioaccum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 species-specific differences in metal tole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field observations consistent with understanding of mechanis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04920" y="304920"/>
            <a:ext cx="8458200" cy="6343560"/>
            <a:chOff x="304920" y="304920"/>
            <a:chExt cx="8458200" cy="6343560"/>
          </a:xfrm>
        </p:grpSpPr>
        <p:graphicFrame>
          <p:nvGraphicFramePr>
            <p:cNvPr id="267" name=""/>
            <p:cNvGraphicFramePr/>
            <p:nvPr/>
          </p:nvGraphicFramePr>
          <p:xfrm>
            <a:off x="304920" y="304920"/>
            <a:ext cx="8458200" cy="634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04920"/>
                      <a:ext cx="8458200" cy="634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9" name=""/>
            <p:cNvGrpSpPr/>
            <p:nvPr/>
          </p:nvGrpSpPr>
          <p:grpSpPr>
            <a:xfrm>
              <a:off x="5105520" y="1085760"/>
              <a:ext cx="3200400" cy="2971800"/>
              <a:chOff x="5105520" y="1085760"/>
              <a:chExt cx="3200400" cy="2971800"/>
            </a:xfrm>
          </p:grpSpPr>
          <p:pic>
            <p:nvPicPr>
              <p:cNvPr id="2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05520" y="1085760"/>
                <a:ext cx="3200400" cy="297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5232960" y="1800360"/>
                <a:ext cx="211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cc"/>
                    </a:solidFill>
                    <a:latin typeface="Comic Sans MS"/>
                  </a:rPr>
                  <a:t>Hydropsych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5257800" y="116208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Tolera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80880" y="371520"/>
            <a:ext cx="8267760" cy="6200640"/>
            <a:chOff x="380880" y="371520"/>
            <a:chExt cx="8267760" cy="6200640"/>
          </a:xfrm>
        </p:grpSpPr>
        <p:graphicFrame>
          <p:nvGraphicFramePr>
            <p:cNvPr id="274" name=""/>
            <p:cNvGraphicFramePr/>
            <p:nvPr/>
          </p:nvGraphicFramePr>
          <p:xfrm>
            <a:off x="380880" y="371520"/>
            <a:ext cx="8267760" cy="620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71520"/>
                      <a:ext cx="8267760" cy="62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6" name=""/>
            <p:cNvGrpSpPr/>
            <p:nvPr/>
          </p:nvGrpSpPr>
          <p:grpSpPr>
            <a:xfrm>
              <a:off x="4495680" y="1371600"/>
              <a:ext cx="3662280" cy="2528640"/>
              <a:chOff x="4495680" y="1371600"/>
              <a:chExt cx="3662280" cy="2528640"/>
            </a:xfrm>
          </p:grpSpPr>
          <p:pic>
            <p:nvPicPr>
              <p:cNvPr id="2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95680" y="1371600"/>
                <a:ext cx="3662280" cy="25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4728960" y="1600200"/>
                <a:ext cx="16344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Epeor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0000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Scrap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572000" y="838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Sensi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lnerability to metal is rela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ed body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dose associated with sites vulnerable to metal toxicity (metabolically active e.g. enzy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74920" y="3252960"/>
            <a:ext cx="836640" cy="850680"/>
          </a:xfrm>
          <a:prstGeom prst="rect">
            <a:avLst/>
          </a:prstGeom>
          <a:noFill/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74920" y="4527720"/>
            <a:ext cx="139680" cy="852480"/>
          </a:xfrm>
          <a:prstGeom prst="rect">
            <a:avLst/>
          </a:prstGeom>
          <a:noFill/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11560" y="3252960"/>
            <a:ext cx="2436840" cy="850680"/>
          </a:xfrm>
          <a:prstGeom prst="rect">
            <a:avLst/>
          </a:prstGeom>
          <a:noFill/>
          <a:ln w="11160">
            <a:solidFill>
              <a:srgbClr val="19f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4527720"/>
            <a:ext cx="279360" cy="852480"/>
          </a:xfrm>
          <a:prstGeom prst="rect">
            <a:avLst/>
          </a:prstGeom>
          <a:noFill/>
          <a:ln w="11160">
            <a:solidFill>
              <a:srgbClr val="19f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98680" y="409572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3840" y="5486400"/>
            <a:ext cx="104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dis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071880" y="5595480"/>
            <a:ext cx="144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768840" y="5595480"/>
            <a:ext cx="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464000" y="5595480"/>
            <a:ext cx="180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62400" y="5595480"/>
            <a:ext cx="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57920" y="5595480"/>
            <a:ext cx="144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1876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1572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1088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0784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0660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0176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9692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6172200"/>
            <a:ext cx="145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 in µmol/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74920" y="3252960"/>
            <a:ext cx="836640" cy="850680"/>
          </a:xfrm>
          <a:prstGeom prst="rect">
            <a:avLst/>
          </a:pr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74920" y="4527720"/>
            <a:ext cx="139680" cy="852480"/>
          </a:xfrm>
          <a:prstGeom prst="rect">
            <a:avLst/>
          </a:pr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11560" y="3252960"/>
            <a:ext cx="2436840" cy="850680"/>
          </a:xfrm>
          <a:prstGeom prst="rect">
            <a:avLst/>
          </a:prstGeom>
          <a:solidFill>
            <a:srgbClr val="8c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4527720"/>
            <a:ext cx="279360" cy="852480"/>
          </a:xfrm>
          <a:prstGeom prst="rect">
            <a:avLst/>
          </a:prstGeom>
          <a:solidFill>
            <a:srgbClr val="8c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374560" y="5659560"/>
            <a:ext cx="4197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374920" y="2971800"/>
            <a:ext cx="1440" cy="2687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74920" y="2971800"/>
            <a:ext cx="4178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98880" y="4878360"/>
            <a:ext cx="173160" cy="123840"/>
          </a:xfrm>
          <a:prstGeom prst="rect">
            <a:avLst/>
          </a:prstGeom>
          <a:solidFill>
            <a:srgbClr val="ff7f7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4818240"/>
            <a:ext cx="172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98880" y="5119560"/>
            <a:ext cx="173160" cy="122400"/>
          </a:xfrm>
          <a:prstGeom prst="rect">
            <a:avLst/>
          </a:prstGeom>
          <a:solidFill>
            <a:srgbClr val="8cff8c"/>
          </a:solidFill>
          <a:ln w="6480">
            <a:solidFill>
              <a:srgbClr val="19f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75720" y="5059440"/>
            <a:ext cx="209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oxified /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19320" y="3252960"/>
            <a:ext cx="1116000" cy="8413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295280" y="4518000"/>
            <a:ext cx="10400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accumulation at intracellular sites vulnerable to toxi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verage for sites in the 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57200" y="2057400"/>
          <a:ext cx="5486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6095880" y="2057400"/>
            <a:ext cx="27432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accumulation patterns sugge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peorus and Serrat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ore vulnerabl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dropsyche, Arctopsy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et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community-level responses to metals requires information from a variety of 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assessment data indicate improving ecological conditions in the upper 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ponse generally corresponds to lower Cu expos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solating the influences of Cu and discharge is problemati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als IBI appears to be sensitive to both Cu exposure and dis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-specific Cu bioaccumulation patterns are consistent with observed distribution patter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ce of species that bioaccumulate high concentrations of Cu at intracellular sites vulnerable to toxicity is indicative of where metals effects were most likely occur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04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s of ecosystem respon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638680" y="152280"/>
            <a:ext cx="2971800" cy="3505320"/>
            <a:chOff x="5638680" y="152280"/>
            <a:chExt cx="2971800" cy="3505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5791320" y="223920"/>
              <a:ext cx="268596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248520" y="24415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1680" y="2140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2927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72200" y="26560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2920" y="1925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20120" y="2584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15200" y="22118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85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62920" y="2512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343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32281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1520" y="2941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72400" y="23266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480" y="21553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86600" y="32133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43800" y="20401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62920" y="2827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91520" y="3184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5720" y="32565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2226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5880" y="2941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Comic Sans MS"/>
                </a:rPr>
                <a:t>Sedi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19920" y="12967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Environmental indicato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38680" y="152280"/>
              <a:ext cx="2971800" cy="350532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4480" y="25844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533520" cy="365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705720" y="563868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867280" y="5105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accu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6415200"/>
            <a:ext cx="119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Photo: Ed M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3886200"/>
            <a:ext cx="289584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6515280" y="415296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143000" y="990720"/>
            <a:ext cx="4724280" cy="2286000"/>
            <a:chOff x="1143000" y="990720"/>
            <a:chExt cx="4724280" cy="228600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1295280" y="1128600"/>
              <a:ext cx="30481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295280" y="1523880"/>
              <a:ext cx="22860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Floodpla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Stream ban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Tailing Depos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1143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Sourc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5280" y="2909880"/>
              <a:ext cx="121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John Lamb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3000" y="990720"/>
              <a:ext cx="3352680" cy="228600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91120" y="1905120"/>
              <a:ext cx="1676160" cy="457200"/>
            </a:xfrm>
            <a:custGeom>
              <a:avLst/>
              <a:gdLst>
                <a:gd name="textAreaLeft" fmla="*/ 261720 w 1676160"/>
                <a:gd name="textAreaRight" fmla="*/ 1466640 w 167616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8672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886200"/>
            <a:ext cx="289548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4114440" y="5105520"/>
            <a:ext cx="1562040" cy="457200"/>
          </a:xfrm>
          <a:custGeom>
            <a:avLst/>
            <a:gdLst>
              <a:gd name="textAreaLeft" fmla="*/ 244080 w 1562040"/>
              <a:gd name="textAreaRight" fmla="*/ 1366920 w 1562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676520" y="5867280"/>
            <a:ext cx="533160" cy="36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2514600" y="55627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00200" y="4191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xicological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514600" y="4648320"/>
            <a:ext cx="5284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304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s of ecosystem respon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638680" y="152280"/>
            <a:ext cx="2971800" cy="3505320"/>
            <a:chOff x="5638680" y="152280"/>
            <a:chExt cx="2971800" cy="350532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23920"/>
              <a:ext cx="268596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248520" y="24415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2140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43600" y="2927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26560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1925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0120" y="2584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22118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485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2920" y="2512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43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32281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1520" y="2941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72400" y="23266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24480" y="21553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86600" y="32133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43800" y="20401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2827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1520" y="3184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720" y="32565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3080" y="2226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5880" y="2941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Comic Sans MS"/>
                </a:rPr>
                <a:t>Sedi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12967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Environmental indicato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8680" y="152280"/>
              <a:ext cx="2971800" cy="350532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25844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533520" cy="365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705720" y="563868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867280" y="5105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accu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6415200"/>
            <a:ext cx="119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Photo: Ed M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3886200"/>
            <a:ext cx="289584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515280" y="415296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43000" y="990720"/>
            <a:ext cx="4724280" cy="2286000"/>
            <a:chOff x="1143000" y="990720"/>
            <a:chExt cx="4724280" cy="228600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1295280" y="1128600"/>
              <a:ext cx="30481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295280" y="1523880"/>
              <a:ext cx="22860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Floodpla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Stream ban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Tailing Depos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95280" y="1143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Sourc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2909880"/>
              <a:ext cx="121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John Lamb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3000" y="990720"/>
              <a:ext cx="3352680" cy="228600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91120" y="1905120"/>
              <a:ext cx="1676160" cy="457200"/>
            </a:xfrm>
            <a:custGeom>
              <a:avLst/>
              <a:gdLst>
                <a:gd name="textAreaLeft" fmla="*/ 261720 w 1676160"/>
                <a:gd name="textAreaRight" fmla="*/ 1466640 w 167616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8672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86200"/>
            <a:ext cx="289548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4114440" y="5105520"/>
            <a:ext cx="1562040" cy="457200"/>
          </a:xfrm>
          <a:custGeom>
            <a:avLst/>
            <a:gdLst>
              <a:gd name="textAreaLeft" fmla="*/ 244080 w 1562040"/>
              <a:gd name="textAreaRight" fmla="*/ 1366920 w 1562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676520" y="5867280"/>
            <a:ext cx="533160" cy="365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514600" y="55627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00200" y="4191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xicological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876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886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38080" y="2743200"/>
            <a:ext cx="2971800" cy="3278880"/>
            <a:chOff x="838080" y="2743200"/>
            <a:chExt cx="2971800" cy="3278880"/>
          </a:xfrm>
        </p:grpSpPr>
        <p:sp>
          <p:nvSpPr>
            <p:cNvPr id="155" name=""/>
            <p:cNvSpPr/>
            <p:nvPr/>
          </p:nvSpPr>
          <p:spPr>
            <a:xfrm>
              <a:off x="838080" y="55623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ference cond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990720" y="3809880"/>
              <a:ext cx="1218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209680" y="4406760"/>
              <a:ext cx="121932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1752480" y="2743200"/>
              <a:ext cx="1524240" cy="106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understanding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eliminate some species from assemb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5715000" y="3809880"/>
            <a:ext cx="1219320" cy="935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6934320" y="4419720"/>
            <a:ext cx="12333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1218960" cy="935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09680" y="44067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52480" y="2743200"/>
            <a:ext cx="1524240" cy="1065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understanding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sence of other species may be caused by other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791320" y="3809880"/>
            <a:ext cx="1218960" cy="935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9880" y="426708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35720" y="4572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r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1218960" cy="935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209680" y="44067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752480" y="2743200"/>
            <a:ext cx="1524240" cy="1065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tic understanding of species-specific vulnerability to metals can reduc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791320" y="3809880"/>
            <a:ext cx="1218960" cy="935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09880" y="426708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35720" y="4572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r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1218960" cy="935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09680" y="44067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752480" y="2743200"/>
            <a:ext cx="1524240" cy="1065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tic understanding of species-specific vulnerability to metals can reduc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5791320" y="3809880"/>
            <a:ext cx="1218960" cy="935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09880" y="426708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35720" y="4572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r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3123720" y="2057400"/>
            <a:ext cx="838440" cy="1143000"/>
          </a:xfrm>
          <a:custGeom>
            <a:avLst/>
            <a:gdLst>
              <a:gd name="textAreaLeft" fmla="*/ 112320 w 838440"/>
              <a:gd name="textAreaRight" fmla="*/ 726120 w 838440"/>
              <a:gd name="textAreaTop" fmla="*/ 233280 h 1143000"/>
              <a:gd name="textAreaBottom" fmla="*/ 909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20" stAng="-5400000" swAng="-5400000"/>
                <a:lnTo>
                  <a:pt x="0" y="12780"/>
                </a:lnTo>
                <a:arcTo wR="21600" hR="8820" stAng="10800000" swAng="-3046054"/>
                <a:lnTo>
                  <a:pt x="14768" y="21147"/>
                </a:lnTo>
                <a:lnTo>
                  <a:pt x="21600" y="19620"/>
                </a:lnTo>
                <a:lnTo>
                  <a:pt x="14768" y="17187"/>
                </a:lnTo>
                <a:lnTo>
                  <a:pt x="14768" y="17187"/>
                </a:lnTo>
                <a:arcTo wR="21600" hR="8820" stAng="7753946" swAng="2723622"/>
                <a:lnTo>
                  <a:pt x="551" y="10800"/>
                </a:lnTo>
                <a:arcTo wR="21600" hR="8820" stAng="-10477568" swAng="5077568"/>
                <a:close/>
              </a:path>
              <a:path fill="darkenLess" w="21600" h="21600">
                <a:moveTo>
                  <a:pt x="21600" y="0"/>
                </a:moveTo>
                <a:arcTo wR="21600" hR="8820" stAng="-5400000" swAng="-5400000"/>
                <a:lnTo>
                  <a:pt x="0" y="8820"/>
                </a:lnTo>
                <a:arcTo wR="21600" hR="8820" stAng="10800000" swAng="-322432"/>
                <a:lnTo>
                  <a:pt x="551" y="10800"/>
                </a:lnTo>
                <a:arcTo wR="21600" hR="8820" stAng="-10477568" swAng="50775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1981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y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590920" y="388620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40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metal effec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and sourc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assessment (S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surveys of benthic macroinverteb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 exposures (USGS/USE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invertebrate species (aquatic ins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physiology of metal bioaccumulation (USGS, N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 species-specific vulnerability based on metal bioaccumulat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of macroinvertebrates and relation to metal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67080" y="1752120"/>
            <a:ext cx="4267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levels of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where greatest impacts have occurred in the past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where remediation is focu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d by a metals-specific IBI composed of  three metrics (i.e. tolerance index, EPT, density) (McGuire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09480" y="1676520"/>
          <a:ext cx="35942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35942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7:15:52Z</dcterms:created>
  <dc:creator>djcain</dc:creator>
  <dc:description/>
  <dc:language>en-US</dc:language>
  <cp:lastModifiedBy>djcain</cp:lastModifiedBy>
  <dcterms:modified xsi:type="dcterms:W3CDTF">2005-03-30T22:55:30Z</dcterms:modified>
  <cp:revision>140</cp:revision>
  <dc:subject/>
  <dc:title>Slide 1</dc:title>
</cp:coreProperties>
</file>