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wmf" ContentType="image/x-wmf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B422-F0CF-4420-AEB0-8E26E5670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bout a figure of picture here.  I had a picture of the 1908 flood, but I think we should have a design picture or figure would be appropriate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keep this picture, I want to highlight where remediation is taking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put a figure here if you have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40044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lark Fork Symposium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187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95880" y="2438280"/>
            <a:ext cx="282420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95880" y="4648320"/>
            <a:ext cx="281952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lltown Phase II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ft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1920" y="44956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g Martin, State of Mont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Decker, WestWater Consultants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er Design Group,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ata Collection and Analysi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hase II Purpose and Goal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e DCRP assumptions and complete detailed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appropriate channel morph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 design criteria for Final Desig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project cost estimates, phasing, and construction seque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 potential restoration risk for restoration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changes in wetland conditions from existing to proposed design –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Questions to be Answered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e most probable historical channel and floodplain morpholog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urrent channel and floodplain conditions and how have they been influenced by historical and contemporary land u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we restore the system to historical conditions given the project constraints and upstream cond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ield Data Collection Overvie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to characterize conditions and to develop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 reaches on CFR, 4 on BF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eld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orphic survey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erence and existing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d material character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ge station calib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parian condition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 stability and erosion pot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ley morphology and tran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1676520"/>
            <a:ext cx="25146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943600" y="4419720"/>
            <a:ext cx="2895480" cy="1874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mote Data Collection Over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conditions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and time series aerial photograph interpre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2578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715000" y="4800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University of Washington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53416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ata Analysis Techniq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32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and reference conditions – departur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mode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pient particle motion and sediment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ley morp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plan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 floe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76400" cy="383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1: Historical Channel and Floodplain Morphologie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journals, photos, and earliest aerial photograp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ed and evaluated project area and reaches with similar valley morph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me equations addressing channel morphology (Millar, Knight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191120"/>
            <a:ext cx="83059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information and data suggest the Clark Fork River was historically a meandering river system.  The historical channel is believed to have transitioned from an unconfined to confined system without brai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868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28600" y="1143000"/>
            <a:ext cx="8610480" cy="5961240"/>
            <a:chOff x="228600" y="1143000"/>
            <a:chExt cx="8610480" cy="5961240"/>
          </a:xfrm>
        </p:grpSpPr>
        <p:grpSp>
          <p:nvGrpSpPr>
            <p:cNvPr id="114" name=""/>
            <p:cNvGrpSpPr/>
            <p:nvPr/>
          </p:nvGrpSpPr>
          <p:grpSpPr>
            <a:xfrm>
              <a:off x="228600" y="1143000"/>
              <a:ext cx="4446360" cy="5457960"/>
              <a:chOff x="228600" y="1143000"/>
              <a:chExt cx="4446360" cy="545796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143000"/>
                <a:ext cx="4419360" cy="51814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676160" y="6324480"/>
                <a:ext cx="299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University of Washington Libra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09680" y="5486400"/>
                <a:ext cx="2286000" cy="641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p from the Lewis and Clark Journals.  Highlight of the Clark Fork and Blackfoot confluence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647960" y="1143000"/>
              <a:ext cx="4191120" cy="596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…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he Cokahlahishkit R which falls in on the N.E. sid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[of the 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, is 60 yds. wide deep and rapid.  the banks bold not very high but never overflow.  the East for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Clark Fork River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below its junction with this stream is 100 yds. wide and above it about 90.  the water of boath are terbid but the East branch much the most so; their beds are composed of sand and g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. Lewis,  July 3, 18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04920" y="1219320"/>
            <a:ext cx="8534160" cy="5677200"/>
            <a:chOff x="304920" y="1219320"/>
            <a:chExt cx="8534160" cy="5677200"/>
          </a:xfrm>
        </p:grpSpPr>
        <p:grpSp>
          <p:nvGrpSpPr>
            <p:cNvPr id="120" name=""/>
            <p:cNvGrpSpPr/>
            <p:nvPr/>
          </p:nvGrpSpPr>
          <p:grpSpPr>
            <a:xfrm>
              <a:off x="304920" y="1219320"/>
              <a:ext cx="5124240" cy="5254560"/>
              <a:chOff x="304920" y="1219320"/>
              <a:chExt cx="5124240" cy="5254560"/>
            </a:xfrm>
          </p:grpSpPr>
          <p:pic>
            <p:nvPicPr>
              <p:cNvPr id="12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1219320"/>
                <a:ext cx="5124240" cy="5254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3809880" y="36576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3657600"/>
                <a:ext cx="15228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5480" y="3886200"/>
                <a:ext cx="152640" cy="1522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5410080" y="1219320"/>
              <a:ext cx="3429000" cy="567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Results for CF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Predicte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97           0.00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167           0.0028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0048            0.00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me equation predicts a meandering channel 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llar, 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52280" y="1143000"/>
            <a:ext cx="86868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ed historical maps, and jou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eries aerial photograph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ure analysis comparing existing and reference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58128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disturbance in the Upper Clark Fork River watershed and more immediate floodplain corridor perturbed the system.  Periodic large magnitude flood events unravel the stream network.  Inter-flood periods characterized by channel recov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2: Current Conditions &amp; Land Use Effects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251280" indent="-25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use effects date to 18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tow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corrid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straight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51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1170000"/>
            <a:ext cx="86868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398600"/>
          <a:ext cx="8534160" cy="2230560"/>
        </p:xfrm>
        <a:graphic>
          <a:graphicData uri="http://schemas.openxmlformats.org/drawingml/2006/table">
            <a:tbl>
              <a:tblPr/>
              <a:tblGrid>
                <a:gridCol w="1236600"/>
                <a:gridCol w="1278000"/>
                <a:gridCol w="1295280"/>
                <a:gridCol w="1447920"/>
                <a:gridCol w="1752480"/>
                <a:gridCol w="1523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f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Riff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th (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a (ft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th/Depth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i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33-7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.6-1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.4-7.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128-1,36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85-45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n =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8-20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.7-3.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.9-6.2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19-64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7-7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304920" y="3913200"/>
            <a:ext cx="4267080" cy="2364480"/>
            <a:chOff x="304920" y="3913200"/>
            <a:chExt cx="4267080" cy="2364480"/>
          </a:xfrm>
        </p:grpSpPr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380880" y="3913200"/>
              <a:ext cx="419112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04920" y="581796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Braided Reach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572000" y="3913200"/>
            <a:ext cx="4572000" cy="2364480"/>
            <a:chOff x="4572000" y="3913200"/>
            <a:chExt cx="4572000" cy="2364480"/>
          </a:xfrm>
        </p:grpSpPr>
        <p:pic>
          <p:nvPicPr>
            <p:cNvPr id="140" name="" descr=""/>
            <p:cNvPicPr/>
            <p:nvPr/>
          </p:nvPicPr>
          <p:blipFill>
            <a:blip r:embed="rId4"/>
            <a:stretch/>
          </p:blipFill>
          <p:spPr>
            <a:xfrm>
              <a:off x="4648320" y="3913200"/>
              <a:ext cx="41860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572000" y="581796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Reference Reach Riffle X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Questions 3: Restoration Potential within Existing Constrai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erence reach data from simila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aulic and sediment transport modeling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parian veget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8620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CLUSION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ill be possible to reconstruct the channel and floodplain to emulate historical conditions.  An upstream reference reach has maintained a functioning meandering pattern for 60+ years.  Limiting project risk will be a prio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Presentation Outlin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Conceptual Restoration Plan re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ation plan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ase II data collection and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 design plan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 moving for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4572000"/>
            <a:ext cx="3606840" cy="173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572000"/>
            <a:ext cx="3610080" cy="174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alphaModFix amt="52000"/>
          </a:blip>
          <a:srcRect l="2542" t="0" r="20517" b="0"/>
          <a:stretch/>
        </p:blipFill>
        <p:spPr>
          <a:xfrm>
            <a:off x="-3240" y="0"/>
            <a:ext cx="914724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hase II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65833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niversity of Washington Libr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ed reference reach data, modeling results, and regime equations to develop draft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nel grading plan through reservoir to be integrated with remedial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channel stability through contaminated sediment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off-channel habitats and floodplain wetlands in draft channel desig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hensive revegetation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aft Desig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2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6400" y="990720"/>
            <a:ext cx="8224920" cy="535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ummary – Project Schedu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ing Draft Design Plan: Due April 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er Review Process: April 15 – May 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 Trustee and Peer Review Com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Fina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Final Desig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440" y="1165320"/>
            <a:ext cx="9034560" cy="569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illtown Reservoir Sediment Operable Uni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the Clark Fork and Blackfoot rivers in the Milltown Reservoir Sediment Operable Unit (MRSOU) to be naturally functioning and self-mainta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ative materials to the extent practical, for stabilizing channels and floodpl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water quality by stabilizing contaminated sediments to be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high quality habitat for fish and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storation Plan Objectiv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existing infrastructure stabi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 aesthetic values in the area by creating a diverse, natural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 recreational opportunities such as river boating, fishing, and trail access for hiking and bi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75912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63560" y="4267080"/>
            <a:ext cx="3757680" cy="198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 of DC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purpose was to develop a cost estimate for settlement and planning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rporated preliminary data to offer potential restoration options for the Remediation Plan – natural channel vs. armored cha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developed to gauge public support for dam removal and restoration of Clark Fork and Blackfoot riv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Draft Conceptual Restoration Pla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RP Accomplish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ermined scope of restoration effor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understanding of Milltown Dam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d information for integration with Remediation 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d basis for removing the Milltown Dam powerhouse and Stimson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vorable public comments for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ublic Process and Design Ph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295280"/>
            <a:ext cx="24195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 Draft Conceptual Restoratio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ebruary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295280"/>
            <a:ext cx="235908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Public Meetings /Responsiveness 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25800">
            <a:off x="3027240" y="15267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64240" y="1295280"/>
            <a:ext cx="2351160" cy="12956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June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4876920"/>
            <a:ext cx="22334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Public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876920"/>
            <a:ext cx="2705400" cy="131904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aft Phase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 and Pee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pril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3156600">
            <a:off x="2713320" y="4371120"/>
            <a:ext cx="216000" cy="379440"/>
          </a:xfrm>
          <a:prstGeom prst="downArrow">
            <a:avLst>
              <a:gd name="adj1" fmla="val 50000"/>
              <a:gd name="adj2" fmla="val 43917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3200400"/>
            <a:ext cx="2919240" cy="115092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se II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c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ngo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876920"/>
            <a:ext cx="2048040" cy="1295280"/>
          </a:xfrm>
          <a:prstGeom prst="flowChartProcess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l Phase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25800">
            <a:off x="6043680" y="151416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25800">
            <a:off x="6176880" y="53287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25800">
            <a:off x="3280680" y="5253480"/>
            <a:ext cx="217440" cy="378000"/>
          </a:xfrm>
          <a:prstGeom prst="downArrow">
            <a:avLst>
              <a:gd name="adj1" fmla="val 50000"/>
              <a:gd name="adj2" fmla="val 43460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3156600">
            <a:off x="6329160" y="2738520"/>
            <a:ext cx="217440" cy="379440"/>
          </a:xfrm>
          <a:prstGeom prst="downArrow">
            <a:avLst>
              <a:gd name="adj1" fmla="val 50000"/>
              <a:gd name="adj2" fmla="val 43626"/>
            </a:avLst>
          </a:prstGeom>
          <a:solidFill>
            <a:srgbClr val="ff33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ject Constraints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iments left in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s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ation with reme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ty with upstream and downstream re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273480" cy="267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3276720" cy="22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2:33:01Z</dcterms:created>
  <dc:creator>NRDP</dc:creator>
  <dc:description/>
  <dc:language>en-US</dc:language>
  <cp:lastModifiedBy>admin</cp:lastModifiedBy>
  <dcterms:modified xsi:type="dcterms:W3CDTF">2005-04-20T19:09:19Z</dcterms:modified>
  <cp:revision>70</cp:revision>
  <dc:subject/>
  <dc:title>Review of the Draft Conceptual Restoration Plan (DCRP)</dc:title>
</cp:coreProperties>
</file>