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D45-DD88-41AA-A126-7CC60AD6B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bout a figure of picture here.  I had a picture of the 1908 flood, but I think we should have a design picture or figure would be appropri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keep this picture, I want to highlight where remediation is taking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4004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lark Fork Symposium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18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82420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95880" y="4648320"/>
            <a:ext cx="281952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lltown Phase I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4495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g Martin, State of Mo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Decker, WestWater Consultant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Design Group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ata Collection and An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se II Purpose and Goa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e DCRP assumptions and complete detailed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appropriate channel morph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design criteria for Final Desig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project cost estimates, phasing, and construction sequ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potential restoration risk for restor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changes in wetland conditions from existing to proposed design –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Questions to be Answered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e most probable historical channel and floodplain morpholog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urrent channel and floodplain conditions and how have they been influenced by historical and contemporary land u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e restore the system to historical conditions given the project constraints and upstream cond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eld Data Collection Over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to characterize conditions and to develop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reaches on CFR, 4 on B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ic surve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and exist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aterial charac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ge station calib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parian condition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stability and erosion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ley morphology and tran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5146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943600" y="4419720"/>
            <a:ext cx="289548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mote Data Collection Over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conditions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and time series aerial photograph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578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15000" y="4800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University of Washington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5341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Analysis Techniq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and reference conditions – departur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pient particle motion and sediment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ley morp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plan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 floe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76400" cy="38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1: Historical Channel and Floodplain Morphologi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journals, photos, and earliest aerial photo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ed and evaluated project area and reaches with similar valley morph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me equations addressing channel morphology (Millar, Knight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information and data suggest the Clark Fork River was historically a meandering river system.  The historical channel is believed to have transitioned from an unconfined to confined system without bra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28600" y="1143000"/>
            <a:ext cx="8610480" cy="5961240"/>
            <a:chOff x="228600" y="1143000"/>
            <a:chExt cx="8610480" cy="5961240"/>
          </a:xfrm>
        </p:grpSpPr>
        <p:grpSp>
          <p:nvGrpSpPr>
            <p:cNvPr id="114" name=""/>
            <p:cNvGrpSpPr/>
            <p:nvPr/>
          </p:nvGrpSpPr>
          <p:grpSpPr>
            <a:xfrm>
              <a:off x="228600" y="1143000"/>
              <a:ext cx="4446360" cy="5457960"/>
              <a:chOff x="228600" y="1143000"/>
              <a:chExt cx="4446360" cy="545796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143000"/>
                <a:ext cx="4419360" cy="5181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676160" y="6324480"/>
                <a:ext cx="299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niversity of Washington Libra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09680" y="5486400"/>
                <a:ext cx="2286000" cy="641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p from the Lewis and Clark Journals.  Highlight of the Clark Fork and Blackfoot confluenc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647960" y="1143000"/>
              <a:ext cx="4191120" cy="596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he Cokahlahishkit R which falls in on the N.E. s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of the 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is 60 yds. wide deep and rapid.  the banks bold not very high but never overflow.  the East for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below its junction with this stream is 100 yds. wide and above it about 90.  the water of boath are terbid but the East branch much the most so; their beds are composed of sand and g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. Lewis,  July 3, 18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920" y="1219320"/>
            <a:ext cx="8534160" cy="5677200"/>
            <a:chOff x="304920" y="1219320"/>
            <a:chExt cx="8534160" cy="5677200"/>
          </a:xfrm>
        </p:grpSpPr>
        <p:grpSp>
          <p:nvGrpSpPr>
            <p:cNvPr id="120" name=""/>
            <p:cNvGrpSpPr/>
            <p:nvPr/>
          </p:nvGrpSpPr>
          <p:grpSpPr>
            <a:xfrm>
              <a:off x="304920" y="1219320"/>
              <a:ext cx="5124240" cy="5254560"/>
              <a:chOff x="304920" y="1219320"/>
              <a:chExt cx="5124240" cy="52545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1219320"/>
                <a:ext cx="5124240" cy="5254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809880" y="36576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3657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38862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410080" y="1219320"/>
              <a:ext cx="3429000" cy="56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Results for CF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Predict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97           0.00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67           0.0028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048           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predicts a meandering channel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llar, 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86868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and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eries aerial photograp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ure analysis comparing existing and referenc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58128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disturbance in the Upper Clark Fork River watershed and more immediate floodplain corridor perturbed the system.  Periodic large magnitude flood events unravel the stream network.  Inter-flood periods characterized by channel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51280" indent="-25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use effects date to 18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tow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corrid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straight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1170000"/>
            <a:ext cx="86868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398600"/>
          <a:ext cx="8534160" cy="2230560"/>
        </p:xfrm>
        <a:graphic>
          <a:graphicData uri="http://schemas.openxmlformats.org/drawingml/2006/table">
            <a:tbl>
              <a:tblPr/>
              <a:tblGrid>
                <a:gridCol w="1236600"/>
                <a:gridCol w="1278000"/>
                <a:gridCol w="1295280"/>
                <a:gridCol w="1447920"/>
                <a:gridCol w="17524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f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iff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ft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p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i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33-7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.6-1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.4-7.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28-1,3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5-4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8-2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7-3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.9-6.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19-6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7-7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304920" y="3913200"/>
            <a:ext cx="4267080" cy="2364480"/>
            <a:chOff x="304920" y="3913200"/>
            <a:chExt cx="4267080" cy="236448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80880" y="3913200"/>
              <a:ext cx="419112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4920" y="581796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raided Reach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572000" y="3913200"/>
            <a:ext cx="4572000" cy="2364480"/>
            <a:chOff x="4572000" y="3913200"/>
            <a:chExt cx="4572000" cy="2364480"/>
          </a:xfrm>
        </p:grpSpPr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4648320" y="3913200"/>
              <a:ext cx="4186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0" y="581796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ference Reach Riffle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3: Restoration Potential within Existing Constrai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reach data from simila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and sediment transport modeling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arian veget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862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possible to reconstruct the channel and floodplain to emulate historical conditions.  An upstream reference reach has maintained a functioning meandering pattern for 60+ years.  Limiting project risk will be a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resentation Outlin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Conceptual Restoration Plan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ation plan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design plan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 moving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3606840" cy="17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3610080" cy="17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ference reach data, modeling results, and regime equations to develop draft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grading plan through reservoir to be integrated with remedial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channel stability through contaminated sediment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off-channel habitats and floodplain wetlands in draft channel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6400" y="990720"/>
            <a:ext cx="8224920" cy="53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mmary – Project Schedu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Draft Design Plan: Due April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 Process: April 15 – May 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Trustee and Peer Review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Fin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Final De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440" y="1165320"/>
            <a:ext cx="9034560" cy="569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lltown Reservoir Sediment Operable Uni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the Clark Fork and Blackfoot rivers in the Milltown Reservoir Sediment Operable Unit (MRSOU) to be naturally functioning and self-maint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ative materials to the extent practical, for stabilizing channels and flood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water quality by stabilizing contaminated sediments to be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high quality habitat for fish and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existing infrastructure s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esthetic values in the area by creating a diverse, natur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recreational opportunities such as river boating, fishing, and trail access for hiking and bi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75912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3560" y="4267080"/>
            <a:ext cx="3757680" cy="19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 of DC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purpose was to develop a cost estimate for settlement and planning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d preliminary data to offer potential restoration options for the Remediation Plan – natural channel vs. armored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developed to gauge public support for dam removal and restoration of Clark Fork and Blackfoot ri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RP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scope of restoration eff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ing of Milltown Dam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formation for integration with Remediation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basis for removing the Milltown Dam powerhouse and Stimso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able public comments for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Process and Design Ph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295280"/>
            <a:ext cx="24195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 Draft Conceptual Restora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ebruary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295280"/>
            <a:ext cx="235908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Public Meetings /Responsiveness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25800">
            <a:off x="3027240" y="15267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64240" y="1295280"/>
            <a:ext cx="23511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June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876920"/>
            <a:ext cx="22334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Public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876920"/>
            <a:ext cx="2705400" cy="13190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 Phas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 and Pee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ril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156600">
            <a:off x="2713320" y="4371120"/>
            <a:ext cx="216000" cy="379440"/>
          </a:xfrm>
          <a:prstGeom prst="downArrow">
            <a:avLst>
              <a:gd name="adj1" fmla="val 50000"/>
              <a:gd name="adj2" fmla="val 43917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200400"/>
            <a:ext cx="2919240" cy="115092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I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ngo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876920"/>
            <a:ext cx="20480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Phas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25800">
            <a:off x="6043680" y="15141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25800">
            <a:off x="6176880" y="53287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25800">
            <a:off x="3280680" y="5253480"/>
            <a:ext cx="217440" cy="378000"/>
          </a:xfrm>
          <a:prstGeom prst="downArrow">
            <a:avLst>
              <a:gd name="adj1" fmla="val 50000"/>
              <a:gd name="adj2" fmla="val 43460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3156600">
            <a:off x="6329160" y="27385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ject Constraint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s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with reme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ty with upstream and downstream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273480" cy="267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2767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2:33:01Z</dcterms:created>
  <dc:creator>NRDP</dc:creator>
  <dc:description/>
  <dc:language>en-US</dc:language>
  <cp:lastModifiedBy>admin</cp:lastModifiedBy>
  <dcterms:modified xsi:type="dcterms:W3CDTF">2005-04-20T19:09:19Z</dcterms:modified>
  <cp:revision>70</cp:revision>
  <dc:subject/>
  <dc:title>Review of the Draft Conceptual Restoration Plan (DCRP)</dc:title>
</cp:coreProperties>
</file>