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02336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42960" y="1142640"/>
            <a:ext cx="37720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81F-3E9E-4467-9B18-4D2F4784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542960" y="1143000"/>
            <a:ext cx="377208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6696-F8F5-4A5F-ADD9-FF45CB5C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E91-5E00-4906-86A5-D4207C9C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3419784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7880" y="19826280"/>
            <a:ext cx="3419784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424-B2A4-46CB-A9B2-62D5BE80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788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54124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2AA-ADB7-4688-B120-0CCE9DC2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580000" y="95104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142480" y="95104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7880" y="198262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580000" y="198262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142480" y="19826280"/>
            <a:ext cx="110113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32E-0E2D-4BE5-B56E-D6B1151D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7880" y="9510480"/>
            <a:ext cx="341978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DDD-333A-4F62-9E4A-2EFAB022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3419784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75C-6FEC-414D-8807-0B32FBD1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961-4CB6-4917-A5D1-40489012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9C5-1527-4C4E-9AAA-65B75478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7880" y="2925720"/>
            <a:ext cx="341978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A49-F9D8-4E9D-9F11-3FB795B3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788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368-374E-4D1C-BCBE-91BA1223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41240" y="198262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A4A-C3E2-46B4-A5EA-644C23B9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788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541240" y="9510480"/>
            <a:ext cx="1668852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7880" y="19826280"/>
            <a:ext cx="34197840" cy="942048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075200"/>
                <a:tab algn="l" pos="8150400"/>
              </a:tabLst>
            </a:pP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B30-6EFB-4212-8780-254068E3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ctr">
            <a:noAutofit/>
          </a:bodyPr>
          <a:p>
            <a:pPr indent="0" algn="ctr">
              <a:buNone/>
              <a:tabLst>
                <a:tab algn="l" pos="0"/>
                <a:tab algn="l" pos="4075200"/>
                <a:tab algn="l" pos="8150400"/>
              </a:tabLst>
            </a:pPr>
            <a:r>
              <a:rPr b="0" lang="en-US" sz="19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7880" y="9510480"/>
            <a:ext cx="34197840" cy="1974996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rmAutofit/>
          </a:bodyPr>
          <a:p>
            <a:pPr marL="1528920" indent="-1528920">
              <a:spcBef>
                <a:spcPts val="3574"/>
              </a:spcBef>
              <a:buClr>
                <a:srgbClr val="000000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1640" indent="-1273320">
              <a:spcBef>
                <a:spcPts val="3574"/>
              </a:spcBef>
              <a:buClr>
                <a:srgbClr val="000000"/>
              </a:buClr>
              <a:buFont typeface="Times New Roman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2" marL="5094360" indent="-1019160">
              <a:spcBef>
                <a:spcPts val="3574"/>
              </a:spcBef>
              <a:buClr>
                <a:srgbClr val="000000"/>
              </a:buClr>
              <a:buFont typeface="Times New Roman"/>
              <a:buChar char="•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3" marL="7132680" indent="-1019160">
              <a:spcBef>
                <a:spcPts val="3574"/>
              </a:spcBef>
              <a:buClr>
                <a:srgbClr val="000000"/>
              </a:buClr>
              <a:buFont typeface="Times New Roman"/>
              <a:buChar char="–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4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5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  <a:p>
            <a:pPr lvl="6" marL="9169560" indent="-1017720">
              <a:spcBef>
                <a:spcPts val="3574"/>
              </a:spcBef>
              <a:buClr>
                <a:srgbClr val="000000"/>
              </a:buClr>
              <a:buFont typeface="Times New Roman"/>
              <a:buChar char="»"/>
              <a:tabLst>
                <a:tab algn="l" pos="4075200"/>
                <a:tab algn="l" pos="8150400"/>
              </a:tabLst>
            </a:pPr>
            <a:r>
              <a:rPr b="0" lang="en-US" sz="14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752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46240" y="29992680"/>
            <a:ext cx="12741120" cy="21938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83348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07520" rIns="407520" tIns="203760" bIns="203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75200"/>
                <a:tab algn="l" pos="8150400"/>
              </a:tabLst>
              <a:defRPr b="0" lang="en-US" sz="6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75200"/>
                <a:tab algn="l" pos="8150400"/>
              </a:tabLst>
            </a:pPr>
            <a:fld id="{29E98B54-64BA-43CF-A7F2-124F8CD6306B}" type="slidenum"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76280" y="6826320"/>
            <a:ext cx="11754000" cy="1146780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re-Calcul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tory class for higher level math and physics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ly fresh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all classroom with 21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ed on building an active learning environment and preparing students for higher cou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troduction to Hono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ly fresh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rge lecture with 100+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d a small group of 13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ved as a men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014440" y="4875120"/>
            <a:ext cx="12204720" cy="18101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y Transform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Assistants act as a teacher and men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ch day serves as a learning opportun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sists students because of experi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le to provide feedback to instru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lanned lectures and activi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s approachabl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651400" y="4854600"/>
            <a:ext cx="10409040" cy="34432200"/>
          </a:xfrm>
          <a:prstGeom prst="rect">
            <a:avLst/>
          </a:prstGeom>
          <a:solidFill>
            <a:srgbClr val="0070c0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Key Takeawa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ly impacted the students’ learning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eting with students more often led them to feel comfortable approaching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s time for a relationship to build between an LA and stu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to be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nding extra time with struggling students 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interactions can occur with unexpected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connections is key for a positive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nitial approach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ited for student to ask for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an to sit-down with the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first students just wanted to know if they were right or w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an guiding students through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ew Outloo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ustrating at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combat this feeling having a purpose helps get through the rough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fun should be a pri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is centered around th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ulty Mentors: Regina Souza and Dr. Timothy NIch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8055000" y="762120"/>
            <a:ext cx="2349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Personal Connection vs. Active Learn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0134720" y="3276720"/>
            <a:ext cx="1796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bastian Driver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matical Sciences Pre-calculus and Intro to Hon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971640" y="26052480"/>
            <a:ext cx="8076960" cy="63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versity of Omaha Nebraska. Google Images. In the image there is a student who is providing peer instruc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8879920" y="561960"/>
            <a:ext cx="11430000" cy="500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Logo, company name&#10;&#10;Description automatically generated"/>
          <p:cNvPicPr/>
          <p:nvPr/>
        </p:nvPicPr>
        <p:blipFill>
          <a:blip r:embed="rId2"/>
          <a:stretch/>
        </p:blipFill>
        <p:spPr>
          <a:xfrm>
            <a:off x="2687760" y="465120"/>
            <a:ext cx="6360840" cy="636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0" y="18675360"/>
            <a:ext cx="9423360" cy="730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4"/>
          <a:stretch/>
        </p:blipFill>
        <p:spPr>
          <a:xfrm>
            <a:off x="20878920" y="21915360"/>
            <a:ext cx="8397720" cy="1065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5"/>
          <a:stretch/>
        </p:blipFill>
        <p:spPr>
          <a:xfrm>
            <a:off x="9699480" y="23633280"/>
            <a:ext cx="10671480" cy="89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5:10:51Z</dcterms:created>
  <dc:creator>Project IBS-Core</dc:creator>
  <dc:description/>
  <dc:language>en-US</dc:language>
  <cp:lastModifiedBy>Driver, Sebastian</cp:lastModifiedBy>
  <dcterms:modified xsi:type="dcterms:W3CDTF">2022-04-18T16:27:51Z</dcterms:modified>
  <cp:revision>51</cp:revision>
  <dc:subject/>
  <dc:title>PowerPoint Presentation</dc:title>
</cp:coreProperties>
</file>