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40233600" cy="32918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542960" y="1142640"/>
            <a:ext cx="377208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075200"/>
                <a:tab algn="l" pos="8150400"/>
              </a:tabLst>
            </a:pPr>
            <a:r>
              <a:rPr b="0" lang="en-US" sz="19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1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D411E-5995-4246-BC79-BF7F906718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542960" y="1143000"/>
            <a:ext cx="3772080" cy="30862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F8A58-7371-4844-997E-5E03F11BF3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5918-EC3B-4ABA-A431-6C63B1AB5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7880" y="2925720"/>
            <a:ext cx="34197840" cy="548640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ctr">
            <a:noAutofit/>
          </a:bodyPr>
          <a:p>
            <a:pPr indent="0" algn="ctr">
              <a:buNone/>
              <a:tabLst>
                <a:tab algn="l" pos="0"/>
                <a:tab algn="l" pos="4075200"/>
                <a:tab algn="l" pos="8150400"/>
              </a:tabLst>
            </a:pPr>
            <a:endParaRPr b="0" lang="en-US" sz="1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7880" y="9510480"/>
            <a:ext cx="34197840" cy="942048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7880" y="19826280"/>
            <a:ext cx="34197840" cy="942048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0916-6313-438D-94C1-AF688EB7B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7880" y="2925720"/>
            <a:ext cx="34197840" cy="548640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ctr">
            <a:noAutofit/>
          </a:bodyPr>
          <a:p>
            <a:pPr indent="0" algn="ctr">
              <a:buNone/>
              <a:tabLst>
                <a:tab algn="l" pos="0"/>
                <a:tab algn="l" pos="4075200"/>
                <a:tab algn="l" pos="8150400"/>
              </a:tabLst>
            </a:pPr>
            <a:endParaRPr b="0" lang="en-US" sz="1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7880" y="9510480"/>
            <a:ext cx="16688520" cy="942048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0541240" y="9510480"/>
            <a:ext cx="16688520" cy="942048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7880" y="19826280"/>
            <a:ext cx="16688520" cy="942048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0541240" y="19826280"/>
            <a:ext cx="16688520" cy="942048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6B2F-A05D-4093-9270-EFC37C3CB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7880" y="2925720"/>
            <a:ext cx="34197840" cy="548640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ctr">
            <a:noAutofit/>
          </a:bodyPr>
          <a:p>
            <a:pPr indent="0" algn="ctr">
              <a:buNone/>
              <a:tabLst>
                <a:tab algn="l" pos="0"/>
                <a:tab algn="l" pos="4075200"/>
                <a:tab algn="l" pos="8150400"/>
              </a:tabLst>
            </a:pPr>
            <a:endParaRPr b="0" lang="en-US" sz="1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7880" y="9510480"/>
            <a:ext cx="11011320" cy="942048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4580000" y="9510480"/>
            <a:ext cx="11011320" cy="942048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6142480" y="9510480"/>
            <a:ext cx="11011320" cy="942048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7880" y="19826280"/>
            <a:ext cx="11011320" cy="942048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4580000" y="19826280"/>
            <a:ext cx="11011320" cy="942048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6142480" y="19826280"/>
            <a:ext cx="11011320" cy="942048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6128-0048-4050-B59F-FFD5B8B92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7880" y="2925720"/>
            <a:ext cx="34197840" cy="548640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ctr">
            <a:noAutofit/>
          </a:bodyPr>
          <a:p>
            <a:pPr indent="0" algn="ctr">
              <a:buNone/>
              <a:tabLst>
                <a:tab algn="l" pos="0"/>
                <a:tab algn="l" pos="4075200"/>
                <a:tab algn="l" pos="8150400"/>
              </a:tabLst>
            </a:pPr>
            <a:endParaRPr b="0" lang="en-US" sz="1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7880" y="9510480"/>
            <a:ext cx="34197840" cy="197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574"/>
              </a:spcBef>
              <a:buNone/>
              <a:tabLst>
                <a:tab algn="l" pos="0"/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26BD-EA39-4B10-A31D-DF9EF3283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7880" y="2925720"/>
            <a:ext cx="34197840" cy="548640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ctr">
            <a:noAutofit/>
          </a:bodyPr>
          <a:p>
            <a:pPr indent="0" algn="ctr">
              <a:buNone/>
              <a:tabLst>
                <a:tab algn="l" pos="0"/>
                <a:tab algn="l" pos="4075200"/>
                <a:tab algn="l" pos="8150400"/>
              </a:tabLst>
            </a:pPr>
            <a:endParaRPr b="0" lang="en-US" sz="1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7880" y="9510480"/>
            <a:ext cx="34197840" cy="1974996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AAC2-184C-441C-867E-319AEA3D2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7880" y="2925720"/>
            <a:ext cx="34197840" cy="548640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ctr">
            <a:noAutofit/>
          </a:bodyPr>
          <a:p>
            <a:pPr indent="0" algn="ctr">
              <a:buNone/>
              <a:tabLst>
                <a:tab algn="l" pos="0"/>
                <a:tab algn="l" pos="4075200"/>
                <a:tab algn="l" pos="8150400"/>
              </a:tabLst>
            </a:pPr>
            <a:endParaRPr b="0" lang="en-US" sz="1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7880" y="9510480"/>
            <a:ext cx="16688520" cy="1974996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0541240" y="9510480"/>
            <a:ext cx="16688520" cy="1974996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4D75-1FD5-49CE-BEA2-D98A6F852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7880" y="2925720"/>
            <a:ext cx="34197840" cy="548640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ctr">
            <a:noAutofit/>
          </a:bodyPr>
          <a:p>
            <a:pPr indent="0" algn="ctr">
              <a:buNone/>
              <a:tabLst>
                <a:tab algn="l" pos="0"/>
                <a:tab algn="l" pos="4075200"/>
                <a:tab algn="l" pos="8150400"/>
              </a:tabLst>
            </a:pPr>
            <a:endParaRPr b="0" lang="en-US" sz="1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BBB3-D97F-4A9B-AB67-DECBC3810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7880" y="2925720"/>
            <a:ext cx="34197840" cy="254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574"/>
              </a:spcBef>
              <a:tabLst>
                <a:tab algn="l" pos="0"/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C90A-D273-44AD-9084-16769B8D0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7880" y="2925720"/>
            <a:ext cx="34197840" cy="548640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ctr">
            <a:noAutofit/>
          </a:bodyPr>
          <a:p>
            <a:pPr indent="0" algn="ctr">
              <a:buNone/>
              <a:tabLst>
                <a:tab algn="l" pos="0"/>
                <a:tab algn="l" pos="4075200"/>
                <a:tab algn="l" pos="8150400"/>
              </a:tabLst>
            </a:pPr>
            <a:endParaRPr b="0" lang="en-US" sz="1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7880" y="9510480"/>
            <a:ext cx="16688520" cy="942048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0541240" y="9510480"/>
            <a:ext cx="16688520" cy="1974996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7880" y="19826280"/>
            <a:ext cx="16688520" cy="942048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8F49-2856-4862-BBEA-B9F2DF351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7880" y="2925720"/>
            <a:ext cx="34197840" cy="548640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ctr">
            <a:noAutofit/>
          </a:bodyPr>
          <a:p>
            <a:pPr indent="0" algn="ctr">
              <a:buNone/>
              <a:tabLst>
                <a:tab algn="l" pos="0"/>
                <a:tab algn="l" pos="4075200"/>
                <a:tab algn="l" pos="8150400"/>
              </a:tabLst>
            </a:pPr>
            <a:endParaRPr b="0" lang="en-US" sz="1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7880" y="9510480"/>
            <a:ext cx="16688520" cy="1974996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0541240" y="9510480"/>
            <a:ext cx="16688520" cy="942048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0541240" y="19826280"/>
            <a:ext cx="16688520" cy="942048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C6F9-9B93-48C7-8222-260828304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7880" y="2925720"/>
            <a:ext cx="34197840" cy="548640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ctr">
            <a:noAutofit/>
          </a:bodyPr>
          <a:p>
            <a:pPr indent="0" algn="ctr">
              <a:buNone/>
              <a:tabLst>
                <a:tab algn="l" pos="0"/>
                <a:tab algn="l" pos="4075200"/>
                <a:tab algn="l" pos="8150400"/>
              </a:tabLst>
            </a:pPr>
            <a:endParaRPr b="0" lang="en-US" sz="1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7880" y="9510480"/>
            <a:ext cx="16688520" cy="942048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0541240" y="9510480"/>
            <a:ext cx="16688520" cy="942048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7880" y="19826280"/>
            <a:ext cx="34197840" cy="942048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2D50-9F15-4D37-B0A3-C4A225E9D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7880" y="2925720"/>
            <a:ext cx="34197840" cy="548640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ctr">
            <a:noAutofit/>
          </a:bodyPr>
          <a:p>
            <a:pPr indent="0" algn="ctr">
              <a:buNone/>
              <a:tabLst>
                <a:tab algn="l" pos="0"/>
                <a:tab algn="l" pos="4075200"/>
                <a:tab algn="l" pos="8150400"/>
              </a:tabLst>
            </a:pPr>
            <a:r>
              <a:rPr b="0" lang="en-US" sz="19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7880" y="9510480"/>
            <a:ext cx="34197840" cy="1974996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t">
            <a:normAutofit/>
          </a:bodyPr>
          <a:p>
            <a:pPr marL="1528920" indent="-1528920">
              <a:spcBef>
                <a:spcPts val="3574"/>
              </a:spcBef>
              <a:buClr>
                <a:srgbClr val="000000"/>
              </a:buClr>
              <a:buFont typeface="Times New Roman"/>
              <a:buChar char="•"/>
              <a:tabLst>
                <a:tab algn="l" pos="4075200"/>
                <a:tab algn="l" pos="8150400"/>
              </a:tabLst>
            </a:pPr>
            <a:r>
              <a:rPr b="0" lang="en-US" sz="14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4300" spc="-1" strike="noStrike">
              <a:solidFill>
                <a:srgbClr val="000000"/>
              </a:solidFill>
              <a:latin typeface="Times New Roman"/>
            </a:endParaRPr>
          </a:p>
          <a:p>
            <a:pPr lvl="1" marL="3311640" indent="-1273320">
              <a:spcBef>
                <a:spcPts val="3574"/>
              </a:spcBef>
              <a:buClr>
                <a:srgbClr val="000000"/>
              </a:buClr>
              <a:buFont typeface="Times New Roman"/>
              <a:buChar char="–"/>
              <a:tabLst>
                <a:tab algn="l" pos="4075200"/>
                <a:tab algn="l" pos="8150400"/>
              </a:tabLst>
            </a:pPr>
            <a:r>
              <a:rPr b="0" lang="en-US" sz="14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4300" spc="-1" strike="noStrike">
              <a:solidFill>
                <a:srgbClr val="000000"/>
              </a:solidFill>
              <a:latin typeface="Times New Roman"/>
            </a:endParaRPr>
          </a:p>
          <a:p>
            <a:pPr lvl="2" marL="5094360" indent="-1019160">
              <a:spcBef>
                <a:spcPts val="3574"/>
              </a:spcBef>
              <a:buClr>
                <a:srgbClr val="000000"/>
              </a:buClr>
              <a:buFont typeface="Times New Roman"/>
              <a:buChar char="•"/>
              <a:tabLst>
                <a:tab algn="l" pos="4075200"/>
                <a:tab algn="l" pos="8150400"/>
              </a:tabLst>
            </a:pPr>
            <a:r>
              <a:rPr b="0" lang="en-US" sz="14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4300" spc="-1" strike="noStrike">
              <a:solidFill>
                <a:srgbClr val="000000"/>
              </a:solidFill>
              <a:latin typeface="Times New Roman"/>
            </a:endParaRPr>
          </a:p>
          <a:p>
            <a:pPr lvl="3" marL="7132680" indent="-1019160">
              <a:spcBef>
                <a:spcPts val="3574"/>
              </a:spcBef>
              <a:buClr>
                <a:srgbClr val="000000"/>
              </a:buClr>
              <a:buFont typeface="Times New Roman"/>
              <a:buChar char="–"/>
              <a:tabLst>
                <a:tab algn="l" pos="4075200"/>
                <a:tab algn="l" pos="8150400"/>
              </a:tabLst>
            </a:pPr>
            <a:r>
              <a:rPr b="0" lang="en-US" sz="14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4300" spc="-1" strike="noStrike">
              <a:solidFill>
                <a:srgbClr val="000000"/>
              </a:solidFill>
              <a:latin typeface="Times New Roman"/>
            </a:endParaRPr>
          </a:p>
          <a:p>
            <a:pPr lvl="4" marL="9169560" indent="-1017720">
              <a:spcBef>
                <a:spcPts val="3574"/>
              </a:spcBef>
              <a:buClr>
                <a:srgbClr val="000000"/>
              </a:buClr>
              <a:buFont typeface="Times New Roman"/>
              <a:buChar char="»"/>
              <a:tabLst>
                <a:tab algn="l" pos="4075200"/>
                <a:tab algn="l" pos="8150400"/>
              </a:tabLst>
            </a:pPr>
            <a:r>
              <a:rPr b="0" lang="en-US" sz="14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4300" spc="-1" strike="noStrike">
              <a:solidFill>
                <a:srgbClr val="000000"/>
              </a:solidFill>
              <a:latin typeface="Times New Roman"/>
            </a:endParaRPr>
          </a:p>
          <a:p>
            <a:pPr lvl="5" marL="9169560" indent="-1017720">
              <a:spcBef>
                <a:spcPts val="3574"/>
              </a:spcBef>
              <a:buClr>
                <a:srgbClr val="000000"/>
              </a:buClr>
              <a:buFont typeface="Times New Roman"/>
              <a:buChar char="»"/>
              <a:tabLst>
                <a:tab algn="l" pos="4075200"/>
                <a:tab algn="l" pos="8150400"/>
              </a:tabLst>
            </a:pPr>
            <a:r>
              <a:rPr b="0" lang="en-US" sz="14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4300" spc="-1" strike="noStrike">
              <a:solidFill>
                <a:srgbClr val="000000"/>
              </a:solidFill>
              <a:latin typeface="Times New Roman"/>
            </a:endParaRPr>
          </a:p>
          <a:p>
            <a:pPr lvl="6" marL="9169560" indent="-1017720">
              <a:spcBef>
                <a:spcPts val="3574"/>
              </a:spcBef>
              <a:buClr>
                <a:srgbClr val="000000"/>
              </a:buClr>
              <a:buFont typeface="Times New Roman"/>
              <a:buChar char="»"/>
              <a:tabLst>
                <a:tab algn="l" pos="4075200"/>
                <a:tab algn="l" pos="8150400"/>
              </a:tabLst>
            </a:pPr>
            <a:r>
              <a:rPr b="0" lang="en-US" sz="14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7520" y="29992680"/>
            <a:ext cx="8381880" cy="219384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3746240" y="29992680"/>
            <a:ext cx="12741120" cy="219384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8833480" y="29992680"/>
            <a:ext cx="8381880" cy="219384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075200"/>
                <a:tab algn="l" pos="8150400"/>
              </a:tabLst>
              <a:defRPr b="0" lang="en-US" sz="6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075200"/>
                <a:tab algn="l" pos="8150400"/>
              </a:tabLst>
            </a:pPr>
            <a:fld id="{82865F19-9275-4988-BCB3-F76BC6514C4D}" type="slidenum">
              <a:rPr b="0" lang="en-US" sz="6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476280" y="6826320"/>
            <a:ext cx="11754000" cy="11467800"/>
          </a:xfrm>
          <a:prstGeom prst="rect">
            <a:avLst/>
          </a:prstGeom>
          <a:solidFill>
            <a:srgbClr val="00b0f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Pre-Calculu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paratory class for higher level math and physics cl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stly freshm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mall classroom with 21 stud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orked on building an active learning environment and preparing students for higher cour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Introduction to Honor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stly fresh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arge lecture with 100+ stud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ad a small group of 13 stud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erved as a men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14014440" y="4875120"/>
            <a:ext cx="12204720" cy="18101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My Transformatio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arning Assistants act as a teacher and ment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ach day serves as a learning opportun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ssists students because of experienc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ble to provide feedback to instruct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lanned lectures and activiti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as approachabl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29651400" y="4854600"/>
            <a:ext cx="10409040" cy="34432200"/>
          </a:xfrm>
          <a:prstGeom prst="rect">
            <a:avLst/>
          </a:prstGeom>
          <a:solidFill>
            <a:srgbClr val="0070c0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Key Takeaway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sitively impacted the students’ learning experi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eting with students more often led them to feel comfortable approaching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s time for a relationship to build between an LA and stud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ve to be patien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pending extra time with struggling students hel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aningful interactions can occur with unexpected stud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ilding connections is key for a positive experi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0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Initial approache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aited for student to ask for hel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gan to sit-down with the studen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t first students just wanted to know if they were right or wro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gan guiding students through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0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New Outlook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rustrating at ti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combat this feeling having a purpose helps get through the rough ti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ving fun should be a prior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arning is centered around th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0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aculty Mentors: Regina Souza and Dr. Timothy NIch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4"/>
          <p:cNvSpPr/>
          <p:nvPr/>
        </p:nvSpPr>
        <p:spPr>
          <a:xfrm>
            <a:off x="8055000" y="762120"/>
            <a:ext cx="23491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Personal Connection vs. Active Learning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8"/>
          <p:cNvSpPr/>
          <p:nvPr/>
        </p:nvSpPr>
        <p:spPr>
          <a:xfrm>
            <a:off x="10134720" y="3276720"/>
            <a:ext cx="17964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bastian Driver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thematical Sciences Pre-calculus and Intro to Hon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0"/>
          <p:cNvSpPr/>
          <p:nvPr/>
        </p:nvSpPr>
        <p:spPr>
          <a:xfrm>
            <a:off x="971640" y="26052480"/>
            <a:ext cx="8076960" cy="63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University of Omaha Nebraska. Google Images. In the image there is a student who is providing peer instruction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2" descr=""/>
          <p:cNvPicPr/>
          <p:nvPr/>
        </p:nvPicPr>
        <p:blipFill>
          <a:blip r:embed="rId1"/>
          <a:stretch/>
        </p:blipFill>
        <p:spPr>
          <a:xfrm>
            <a:off x="28879920" y="561960"/>
            <a:ext cx="11430000" cy="50007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Logo, company name&#10;&#10;Description automatically generated"/>
          <p:cNvPicPr/>
          <p:nvPr/>
        </p:nvPicPr>
        <p:blipFill>
          <a:blip r:embed="rId2"/>
          <a:stretch/>
        </p:blipFill>
        <p:spPr>
          <a:xfrm>
            <a:off x="2687760" y="465120"/>
            <a:ext cx="6360840" cy="6361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" descr=""/>
          <p:cNvPicPr/>
          <p:nvPr/>
        </p:nvPicPr>
        <p:blipFill>
          <a:blip r:embed="rId3"/>
          <a:stretch/>
        </p:blipFill>
        <p:spPr>
          <a:xfrm>
            <a:off x="0" y="18675360"/>
            <a:ext cx="9423360" cy="7308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" descr=""/>
          <p:cNvPicPr/>
          <p:nvPr/>
        </p:nvPicPr>
        <p:blipFill>
          <a:blip r:embed="rId4"/>
          <a:stretch/>
        </p:blipFill>
        <p:spPr>
          <a:xfrm>
            <a:off x="20878920" y="21915360"/>
            <a:ext cx="8397720" cy="10652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"/>
          <p:cNvPicPr/>
          <p:nvPr/>
        </p:nvPicPr>
        <p:blipFill>
          <a:blip r:embed="rId5"/>
          <a:stretch/>
        </p:blipFill>
        <p:spPr>
          <a:xfrm>
            <a:off x="9699480" y="23633280"/>
            <a:ext cx="10671480" cy="897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7T15:10:51Z</dcterms:created>
  <dc:creator>Project IBS-Core</dc:creator>
  <dc:description/>
  <dc:language>en-US</dc:language>
  <cp:lastModifiedBy>Driver, Sebastian</cp:lastModifiedBy>
  <dcterms:modified xsi:type="dcterms:W3CDTF">2022-04-18T16:27:51Z</dcterms:modified>
  <cp:revision>51</cp:revision>
  <dc:subject/>
  <dc:title>PowerPoint Presentation</dc:title>
</cp:coreProperties>
</file>